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6.png" ContentType="image/png"/>
  <Override PartName="/ppt/media/image18.pct" ContentType="image/x-pict"/>
  <Override PartName="/ppt/media/image7.png" ContentType="image/png"/>
  <Override PartName="/ppt/media/image12.png" ContentType="image/png"/>
  <Override PartName="/ppt/media/image19.pct" ContentType="image/x-pict"/>
  <Override PartName="/ppt/media/image8.png" ContentType="image/png"/>
  <Override PartName="/ppt/media/image14.jpeg" ContentType="image/jpeg"/>
  <Override PartName="/ppt/media/image9.png" ContentType="image/png"/>
  <Override PartName="/ppt/media/image22.pct" ContentType="image/x-pict"/>
  <Override PartName="/ppt/media/image13.png" ContentType="image/png"/>
  <Override PartName="/ppt/media/image29.jpeg" ContentType="image/jpeg"/>
  <Override PartName="/ppt/media/image10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4.jpeg" ContentType="image/jpeg"/>
  <Override PartName="/ppt/media/image25.jpeg" ContentType="image/jpeg"/>
  <Override PartName="/ppt/media/image5.png" ContentType="image/png"/>
  <Override PartName="/ppt/media/image2.pct" ContentType="image/x-pict"/>
  <Override PartName="/ppt/media/image1.png" ContentType="image/png"/>
  <Override PartName="/ppt/media/image21.pct" ContentType="image/x-pict"/>
  <Override PartName="/ppt/media/image24.png" ContentType="image/png"/>
  <Override PartName="/ppt/media/image11.jpeg" ContentType="image/jpeg"/>
  <Override PartName="/ppt/media/image16.png" ContentType="image/png"/>
  <Override PartName="/ppt/media/image17.png" ContentType="image/png"/>
  <Override PartName="/ppt/media/image20.png" ContentType="image/png"/>
  <Override PartName="/ppt/media/image28.jpeg" ContentType="image/jpeg"/>
  <Override PartName="/ppt/media/image23.png" ContentType="image/png"/>
  <Override PartName="/ppt/media/image2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874250" cy="7408863"/>
  <p:notesSz cx="740886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408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209760" cy="461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196880" y="-360"/>
            <a:ext cx="3210120" cy="461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239840" y="770040"/>
            <a:ext cx="492768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f0b00"/>
                </a:solidFill>
                <a:latin typeface="Comic Sans MS"/>
              </a:rPr>
              <a:t>Click to move the slide</a:t>
            </a:r>
            <a:endParaRPr b="1" lang="en-US" sz="2800" spc="-1" strike="noStrike">
              <a:solidFill>
                <a:srgbClr val="ff0b00"/>
              </a:solidFill>
              <a:latin typeface="Comic Sans MS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87480" y="469548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393120"/>
            <a:ext cx="3209760" cy="462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196880" y="9393120"/>
            <a:ext cx="3210120" cy="462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71C6CB3A-58F5-4869-84F6-E250D2EE4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sldImg"/>
          </p:nvPr>
        </p:nvSpPr>
        <p:spPr>
          <a:xfrm>
            <a:off x="123660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1314" name="PlaceHolder 2"/>
          <p:cNvSpPr>
            <a:spLocks noGrp="1"/>
          </p:cNvSpPr>
          <p:nvPr>
            <p:ph type="body"/>
          </p:nvPr>
        </p:nvSpPr>
        <p:spPr>
          <a:xfrm>
            <a:off x="987480" y="4690800"/>
            <a:ext cx="5432400" cy="444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8640" rIns="9864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_07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23660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987480" y="4690800"/>
            <a:ext cx="5432400" cy="444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8640" rIns="9864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_07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123660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987480" y="4690800"/>
            <a:ext cx="5432400" cy="444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8640" rIns="9864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_07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sldImg"/>
          </p:nvPr>
        </p:nvSpPr>
        <p:spPr>
          <a:xfrm>
            <a:off x="123660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1320" name="PlaceHolder 2"/>
          <p:cNvSpPr>
            <a:spLocks noGrp="1"/>
          </p:cNvSpPr>
          <p:nvPr>
            <p:ph type="body"/>
          </p:nvPr>
        </p:nvSpPr>
        <p:spPr>
          <a:xfrm>
            <a:off x="987480" y="4690800"/>
            <a:ext cx="5432400" cy="444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8640" rIns="9864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_07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23660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987480" y="4690800"/>
            <a:ext cx="5432400" cy="444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8640" rIns="9864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_07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sldImg"/>
          </p:nvPr>
        </p:nvSpPr>
        <p:spPr>
          <a:xfrm>
            <a:off x="123660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1308" name="PlaceHolder 2"/>
          <p:cNvSpPr>
            <a:spLocks noGrp="1"/>
          </p:cNvSpPr>
          <p:nvPr>
            <p:ph type="body"/>
          </p:nvPr>
        </p:nvSpPr>
        <p:spPr>
          <a:xfrm>
            <a:off x="987480" y="4690800"/>
            <a:ext cx="5432400" cy="444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8640" rIns="9864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_07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23660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987480" y="4690800"/>
            <a:ext cx="5432400" cy="444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8640" rIns="9864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_07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sldImg"/>
          </p:nvPr>
        </p:nvSpPr>
        <p:spPr>
          <a:xfrm>
            <a:off x="123660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1312" name="PlaceHolder 2"/>
          <p:cNvSpPr>
            <a:spLocks noGrp="1"/>
          </p:cNvSpPr>
          <p:nvPr>
            <p:ph type="body"/>
          </p:nvPr>
        </p:nvSpPr>
        <p:spPr>
          <a:xfrm>
            <a:off x="987480" y="4690800"/>
            <a:ext cx="5432400" cy="444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8640" rIns="9864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_07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9A1C-86ED-44CC-A963-48DD80EBB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800" spc="-1" strike="noStrike">
              <a:solidFill>
                <a:srgbClr val="ff0b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3560" y="1733400"/>
            <a:ext cx="888696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0760" indent="0">
              <a:spcBef>
                <a:spcPts val="751"/>
              </a:spcBef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ff0502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3560" y="3977640"/>
            <a:ext cx="888696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0760" indent="0">
              <a:spcBef>
                <a:spcPts val="751"/>
              </a:spcBef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ff0502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F449-E6D0-4468-9AD7-F37768BC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800" spc="-1" strike="noStrike">
              <a:solidFill>
                <a:srgbClr val="ff0b0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3560" y="1733400"/>
            <a:ext cx="433656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0760" indent="0">
              <a:spcBef>
                <a:spcPts val="751"/>
              </a:spcBef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ff0502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47200" y="1733400"/>
            <a:ext cx="433656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0760" indent="0">
              <a:spcBef>
                <a:spcPts val="751"/>
              </a:spcBef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ff0502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3560" y="3977640"/>
            <a:ext cx="433656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0760" indent="0">
              <a:spcBef>
                <a:spcPts val="751"/>
              </a:spcBef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ff0502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47200" y="3977640"/>
            <a:ext cx="433656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0760" indent="0">
              <a:spcBef>
                <a:spcPts val="751"/>
              </a:spcBef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ff0502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9AA7-35DD-4D59-AC13-B39F2C18A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800" spc="-1" strike="noStrike">
              <a:solidFill>
                <a:srgbClr val="ff0b0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3560" y="1733400"/>
            <a:ext cx="286128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0760" indent="0">
              <a:spcBef>
                <a:spcPts val="751"/>
              </a:spcBef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ff0502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98120" y="1733400"/>
            <a:ext cx="286128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0760" indent="0">
              <a:spcBef>
                <a:spcPts val="751"/>
              </a:spcBef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ff0502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03040" y="1733400"/>
            <a:ext cx="286128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0760" indent="0">
              <a:spcBef>
                <a:spcPts val="751"/>
              </a:spcBef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ff0502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3560" y="3977640"/>
            <a:ext cx="286128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0760" indent="0">
              <a:spcBef>
                <a:spcPts val="751"/>
              </a:spcBef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ff0502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98120" y="3977640"/>
            <a:ext cx="286128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0760" indent="0">
              <a:spcBef>
                <a:spcPts val="751"/>
              </a:spcBef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ff0502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03040" y="3977640"/>
            <a:ext cx="286128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0760" indent="0">
              <a:spcBef>
                <a:spcPts val="751"/>
              </a:spcBef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ff0502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6B66-86A8-4C07-B4E1-B98DC24A2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800" spc="-1" strike="noStrike">
              <a:solidFill>
                <a:srgbClr val="ff0b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93560" y="1733400"/>
            <a:ext cx="8886960" cy="429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ff0502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B23B-8772-4593-8356-076048CF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800" spc="-1" strike="noStrike">
              <a:solidFill>
                <a:srgbClr val="ff0b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3560" y="1733400"/>
            <a:ext cx="8886960" cy="429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0760" indent="0">
              <a:spcBef>
                <a:spcPts val="751"/>
              </a:spcBef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ff0502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1EB9-226F-467E-B037-FBD0B85E5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800" spc="-1" strike="noStrike">
              <a:solidFill>
                <a:srgbClr val="ff0b0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3560" y="1733400"/>
            <a:ext cx="4336560" cy="429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0760" indent="0">
              <a:spcBef>
                <a:spcPts val="751"/>
              </a:spcBef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ff0502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47200" y="1733400"/>
            <a:ext cx="4336560" cy="429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0760" indent="0">
              <a:spcBef>
                <a:spcPts val="751"/>
              </a:spcBef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ff0502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61B4-481C-4C04-A303-DFD09AEB4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800" spc="-1" strike="noStrike">
              <a:solidFill>
                <a:srgbClr val="ff0b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D7CA-6AA2-4948-A10B-8A3353C28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40880" y="660240"/>
            <a:ext cx="8393400" cy="57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ff0502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855C-E9B8-463D-84DB-0E0A2E17B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800" spc="-1" strike="noStrike">
              <a:solidFill>
                <a:srgbClr val="ff0b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560" y="1733400"/>
            <a:ext cx="433656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0760" indent="0">
              <a:spcBef>
                <a:spcPts val="751"/>
              </a:spcBef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ff0502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7200" y="1733400"/>
            <a:ext cx="4336560" cy="429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0760" indent="0">
              <a:spcBef>
                <a:spcPts val="751"/>
              </a:spcBef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ff0502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560" y="3977640"/>
            <a:ext cx="433656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0760" indent="0">
              <a:spcBef>
                <a:spcPts val="751"/>
              </a:spcBef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ff0502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4908-5DB0-4F12-9B99-99EC53E6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800" spc="-1" strike="noStrike">
              <a:solidFill>
                <a:srgbClr val="ff0b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560" y="1733400"/>
            <a:ext cx="4336560" cy="429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0760" indent="0">
              <a:spcBef>
                <a:spcPts val="751"/>
              </a:spcBef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ff0502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7200" y="1733400"/>
            <a:ext cx="433656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0760" indent="0">
              <a:spcBef>
                <a:spcPts val="751"/>
              </a:spcBef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ff0502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0" y="3977640"/>
            <a:ext cx="433656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0760" indent="0">
              <a:spcBef>
                <a:spcPts val="751"/>
              </a:spcBef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ff0502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2560-0666-4144-A2EF-C75C182D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800" spc="-1" strike="noStrike">
              <a:solidFill>
                <a:srgbClr val="ff0b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560" y="1733400"/>
            <a:ext cx="433656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0760" indent="0">
              <a:spcBef>
                <a:spcPts val="751"/>
              </a:spcBef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ff0502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0" y="1733400"/>
            <a:ext cx="433656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0760" indent="0">
              <a:spcBef>
                <a:spcPts val="751"/>
              </a:spcBef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ff0502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3560" y="3977640"/>
            <a:ext cx="8886960" cy="204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0760" indent="0">
              <a:spcBef>
                <a:spcPts val="751"/>
              </a:spcBef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ff0502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966A-D79A-4658-A6F5-1DAA0A14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f0b00"/>
                </a:solidFill>
                <a:latin typeface="Comic Sans MS"/>
              </a:rPr>
              <a:t>Click to edit the title text format</a:t>
            </a:r>
            <a:endParaRPr b="1" lang="en-US" sz="2800" spc="-1" strike="noStrike">
              <a:solidFill>
                <a:srgbClr val="ff0b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962160" y="6746760"/>
            <a:ext cx="2057400" cy="495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lstStyle>
            <a:lvl1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0" lang="nl-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nl-NL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74160" y="7124760"/>
            <a:ext cx="3125880" cy="495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1" i="1" lang="nl-N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i="1" lang="nl-NL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695720" y="7086600"/>
            <a:ext cx="2057400" cy="495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1" lang="nl-N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fld id="{35C3E195-FBF8-4653-8401-020C88401E8D}" type="slidenum">
              <a:rPr b="1" lang="nl-NL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933480" y="16344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3920" y="579600"/>
            <a:ext cx="8153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 txBox="1"/>
          <p:nvPr/>
        </p:nvSpPr>
        <p:spPr>
          <a:xfrm>
            <a:off x="4282920" y="122400"/>
            <a:ext cx="4876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Crediti a scelta Genetica Umana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93560" y="1733400"/>
            <a:ext cx="8886960" cy="429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0760" indent="0">
              <a:spcBef>
                <a:spcPts val="751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000" spc="-1" strike="noStrike">
                <a:solidFill>
                  <a:srgbClr val="ff0502"/>
                </a:solidFill>
                <a:latin typeface="Comic Sans MS"/>
              </a:rPr>
              <a:t>Click to edit the outline text format</a:t>
            </a:r>
            <a:endParaRPr b="1" lang="en-US" sz="3000" spc="-1" strike="noStrike">
              <a:solidFill>
                <a:srgbClr val="ff0502"/>
              </a:solidFill>
              <a:latin typeface="Comic Sans MS"/>
            </a:endParaRPr>
          </a:p>
          <a:p>
            <a:pPr lvl="1" marL="696960" indent="-268200">
              <a:spcBef>
                <a:spcPts val="649"/>
              </a:spcBef>
              <a:buClr>
                <a:srgbClr val="ff0502"/>
              </a:buClr>
              <a:buFont typeface="Comic Sans MS"/>
              <a:buChar char="–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600" spc="-1" strike="noStrike">
                <a:solidFill>
                  <a:srgbClr val="ff0502"/>
                </a:solidFill>
                <a:latin typeface="Comic Sans MS"/>
              </a:rPr>
              <a:t>Second Outline Level</a:t>
            </a:r>
            <a:endParaRPr b="1" lang="en-US" sz="2600" spc="-1" strike="noStrike">
              <a:solidFill>
                <a:srgbClr val="ff0502"/>
              </a:solidFill>
              <a:latin typeface="Comic Sans MS"/>
            </a:endParaRPr>
          </a:p>
          <a:p>
            <a:pPr lvl="2" marL="1073160" indent="-214200">
              <a:spcBef>
                <a:spcPts val="550"/>
              </a:spcBef>
              <a:buClr>
                <a:srgbClr val="ff0502"/>
              </a:buClr>
              <a:buFont typeface="Comic Sans MS"/>
              <a:buChar char="•"/>
              <a:tabLst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200" spc="-1" strike="noStrike">
                <a:solidFill>
                  <a:srgbClr val="ff0502"/>
                </a:solidFill>
                <a:latin typeface="Comic Sans MS"/>
              </a:rPr>
              <a:t>Third Outline Level</a:t>
            </a:r>
            <a:endParaRPr b="1" lang="en-US" sz="2200" spc="-1" strike="noStrike">
              <a:solidFill>
                <a:srgbClr val="ff0502"/>
              </a:solidFill>
              <a:latin typeface="Comic Sans MS"/>
            </a:endParaRPr>
          </a:p>
          <a:p>
            <a:pPr lvl="3" marL="1503360" indent="-216000">
              <a:spcBef>
                <a:spcPts val="476"/>
              </a:spcBef>
              <a:buClr>
                <a:srgbClr val="ff0502"/>
              </a:buClr>
              <a:buFont typeface="Comic Sans MS"/>
              <a:buChar char="–"/>
              <a:tabLst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ff0502"/>
                </a:solidFill>
                <a:latin typeface="Comic Sans MS"/>
              </a:rPr>
              <a:t>Fourth Outline Level</a:t>
            </a:r>
            <a:endParaRPr b="1" lang="en-US" sz="1900" spc="-1" strike="noStrike">
              <a:solidFill>
                <a:srgbClr val="ff0502"/>
              </a:solidFill>
              <a:latin typeface="Comic Sans MS"/>
            </a:endParaRPr>
          </a:p>
          <a:p>
            <a:pPr lvl="4" marL="1930320" indent="-214200">
              <a:spcBef>
                <a:spcPts val="476"/>
              </a:spcBef>
              <a:buClr>
                <a:srgbClr val="ff0502"/>
              </a:buClr>
              <a:buFont typeface="Comic Sans MS"/>
              <a:buChar char="»"/>
              <a:tabLst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ff0502"/>
                </a:solidFill>
                <a:latin typeface="Comic Sans MS"/>
              </a:rPr>
              <a:t>Fifth Outline Level</a:t>
            </a:r>
            <a:endParaRPr b="1" lang="en-US" sz="1900" spc="-1" strike="noStrike">
              <a:solidFill>
                <a:srgbClr val="ff0502"/>
              </a:solidFill>
              <a:latin typeface="Comic Sans MS"/>
            </a:endParaRPr>
          </a:p>
          <a:p>
            <a:pPr lvl="5" marL="1930320" indent="-214200">
              <a:spcBef>
                <a:spcPts val="476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502"/>
                </a:solidFill>
                <a:latin typeface="Comic Sans MS"/>
              </a:rPr>
              <a:t>Sixth Outline Level</a:t>
            </a:r>
            <a:endParaRPr b="1" lang="en-US" sz="1900" spc="-1" strike="noStrike">
              <a:solidFill>
                <a:srgbClr val="ff0502"/>
              </a:solidFill>
              <a:latin typeface="Comic Sans MS"/>
            </a:endParaRPr>
          </a:p>
          <a:p>
            <a:pPr lvl="6" marL="1930320" indent="-214200">
              <a:spcBef>
                <a:spcPts val="476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502"/>
                </a:solidFill>
                <a:latin typeface="Comic Sans MS"/>
              </a:rPr>
              <a:t>Seventh Outline Level</a:t>
            </a:r>
            <a:endParaRPr b="1" lang="en-US" sz="1900" spc="-1" strike="noStrike">
              <a:solidFill>
                <a:srgbClr val="ff0502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jpeg"/><Relationship Id="rId11" Type="http://schemas.openxmlformats.org/officeDocument/2006/relationships/slideLayout" Target="../slideLayouts/slideLayout5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ct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ct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slideLayout" Target="../slideLayouts/slideLayout5.xml"/><Relationship Id="rId1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image" Target="../media/image7.png"/><Relationship Id="rId15" Type="http://schemas.openxmlformats.org/officeDocument/2006/relationships/image" Target="../media/image8.png"/><Relationship Id="rId16" Type="http://schemas.openxmlformats.org/officeDocument/2006/relationships/image" Target="../media/image9.png"/><Relationship Id="rId17" Type="http://schemas.openxmlformats.org/officeDocument/2006/relationships/image" Target="../media/image10.jpeg"/><Relationship Id="rId18" Type="http://schemas.openxmlformats.org/officeDocument/2006/relationships/slideLayout" Target="../slideLayouts/slideLayout5.xml"/><Relationship Id="rId1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411480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marL="533520"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100" spc="-1" strike="noStrike">
                <a:solidFill>
                  <a:srgbClr val="fe2c02"/>
                </a:solidFill>
                <a:latin typeface="Comic Sans MS"/>
              </a:rPr>
              <a:t>L’identificazione dei determinanti genetici nei fenotipi umani II </a:t>
            </a:r>
            <a:endParaRPr b="1" lang="en-US" sz="3100" spc="-1" strike="noStrike">
              <a:solidFill>
                <a:srgbClr val="ff0b00"/>
              </a:solidFill>
              <a:latin typeface="Comic Sans M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819520" y="533520"/>
            <a:ext cx="3921120" cy="33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8119-8140-4FB2-A403-DE3D98BB05E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8991360" cy="2060640"/>
          </a:xfrm>
          <a:prstGeom prst="rect">
            <a:avLst/>
          </a:prstGeom>
          <a:ln w="0">
            <a:noFill/>
          </a:ln>
        </p:spPr>
      </p:pic>
      <p:grpSp>
        <p:nvGrpSpPr>
          <p:cNvPr id="533" name=""/>
          <p:cNvGrpSpPr/>
          <p:nvPr/>
        </p:nvGrpSpPr>
        <p:grpSpPr>
          <a:xfrm>
            <a:off x="589320" y="2766600"/>
            <a:ext cx="7716600" cy="1966320"/>
            <a:chOff x="589320" y="2766600"/>
            <a:chExt cx="7716600" cy="1966320"/>
          </a:xfrm>
        </p:grpSpPr>
        <p:sp>
          <p:nvSpPr>
            <p:cNvPr id="534" name=""/>
            <p:cNvSpPr/>
            <p:nvPr/>
          </p:nvSpPr>
          <p:spPr>
            <a:xfrm>
              <a:off x="589320" y="2993040"/>
              <a:ext cx="61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819520" y="4038480"/>
              <a:ext cx="274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905120" y="4343400"/>
              <a:ext cx="4495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767040" y="3678840"/>
              <a:ext cx="106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~290 K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874880" y="3115440"/>
              <a:ext cx="87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330K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761080" y="3107520"/>
              <a:ext cx="87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330K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034440" y="3145320"/>
              <a:ext cx="74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45K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591880" y="3877200"/>
              <a:ext cx="74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45K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58800" y="3494160"/>
              <a:ext cx="277920" cy="2206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406520" y="3494160"/>
              <a:ext cx="371520" cy="2206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429000" y="3500280"/>
              <a:ext cx="2133720" cy="2448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NPH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858080" y="3494160"/>
              <a:ext cx="447840" cy="2635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6" name=""/>
            <p:cNvGrpSpPr/>
            <p:nvPr/>
          </p:nvGrpSpPr>
          <p:grpSpPr>
            <a:xfrm>
              <a:off x="7680240" y="3294000"/>
              <a:ext cx="189000" cy="752040"/>
              <a:chOff x="7680240" y="3294000"/>
              <a:chExt cx="189000" cy="752040"/>
            </a:xfrm>
          </p:grpSpPr>
          <p:sp>
            <p:nvSpPr>
              <p:cNvPr id="547" name=""/>
              <p:cNvSpPr/>
              <p:nvPr/>
            </p:nvSpPr>
            <p:spPr>
              <a:xfrm>
                <a:off x="7680240" y="3329640"/>
                <a:ext cx="94680" cy="71640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774200" y="3294000"/>
                <a:ext cx="95040" cy="71640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9" name=""/>
            <p:cNvSpPr/>
            <p:nvPr/>
          </p:nvSpPr>
          <p:spPr>
            <a:xfrm>
              <a:off x="990720" y="3432240"/>
              <a:ext cx="215640" cy="35712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0" name=""/>
            <p:cNvGrpSpPr/>
            <p:nvPr/>
          </p:nvGrpSpPr>
          <p:grpSpPr>
            <a:xfrm>
              <a:off x="1219320" y="3305160"/>
              <a:ext cx="188280" cy="752040"/>
              <a:chOff x="1219320" y="3305160"/>
              <a:chExt cx="188280" cy="752040"/>
            </a:xfrm>
          </p:grpSpPr>
          <p:sp>
            <p:nvSpPr>
              <p:cNvPr id="551" name=""/>
              <p:cNvSpPr/>
              <p:nvPr/>
            </p:nvSpPr>
            <p:spPr>
              <a:xfrm>
                <a:off x="1219320" y="3340800"/>
                <a:ext cx="94680" cy="71640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1312920" y="3305160"/>
                <a:ext cx="94680" cy="71640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3" name=""/>
            <p:cNvSpPr/>
            <p:nvPr/>
          </p:nvSpPr>
          <p:spPr>
            <a:xfrm>
              <a:off x="1676520" y="3494160"/>
              <a:ext cx="1371600" cy="374400"/>
            </a:xfrm>
            <a:prstGeom prst="rightArrow">
              <a:avLst>
                <a:gd name="adj1" fmla="val 50000"/>
                <a:gd name="adj2" fmla="val 91587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971800" y="3557520"/>
              <a:ext cx="533520" cy="249480"/>
            </a:xfrm>
            <a:prstGeom prst="rightArrow">
              <a:avLst>
                <a:gd name="adj1" fmla="val 50000"/>
                <a:gd name="adj2" fmla="val 53463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00008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295960" y="3525840"/>
              <a:ext cx="1333440" cy="374760"/>
            </a:xfrm>
            <a:prstGeom prst="leftArrow">
              <a:avLst>
                <a:gd name="adj1" fmla="val 50000"/>
                <a:gd name="adj2" fmla="val 88953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791320" y="3608280"/>
              <a:ext cx="533160" cy="250920"/>
            </a:xfrm>
            <a:prstGeom prst="rightArrow">
              <a:avLst>
                <a:gd name="adj1" fmla="val 50000"/>
                <a:gd name="adj2" fmla="val 53121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00008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637320" y="3500280"/>
              <a:ext cx="1012680" cy="2635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267080" y="343224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113200" y="4364640"/>
              <a:ext cx="425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Inversione benigna: 1,3% omozigot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245840" y="2766600"/>
              <a:ext cx="781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2q1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360720" y="4860000"/>
            <a:ext cx="8581680" cy="2082600"/>
            <a:chOff x="360720" y="4860000"/>
            <a:chExt cx="8581680" cy="2082600"/>
          </a:xfrm>
        </p:grpSpPr>
        <p:sp>
          <p:nvSpPr>
            <p:cNvPr id="562" name=""/>
            <p:cNvSpPr/>
            <p:nvPr/>
          </p:nvSpPr>
          <p:spPr>
            <a:xfrm>
              <a:off x="7694640" y="535536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t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273400" y="5715000"/>
              <a:ext cx="1752480" cy="228600"/>
            </a:xfrm>
            <a:prstGeom prst="rightArrow">
              <a:avLst>
                <a:gd name="adj1" fmla="val 50000"/>
                <a:gd name="adj2" fmla="val 191654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025880" y="5753160"/>
              <a:ext cx="762120" cy="152280"/>
            </a:xfrm>
            <a:prstGeom prst="rightArrow">
              <a:avLst>
                <a:gd name="adj1" fmla="val 50000"/>
                <a:gd name="adj2" fmla="val 125118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00008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025880" y="5486400"/>
              <a:ext cx="762120" cy="152280"/>
            </a:xfrm>
            <a:prstGeom prst="rightArrow">
              <a:avLst>
                <a:gd name="adj1" fmla="val 50000"/>
                <a:gd name="adj2" fmla="val 125118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00008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775040" y="5486400"/>
              <a:ext cx="1752840" cy="15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4950000">
              <a:off x="4348080" y="4668120"/>
              <a:ext cx="916200" cy="1485720"/>
            </a:xfrm>
            <a:prstGeom prst="blockArc">
              <a:avLst>
                <a:gd name="adj1" fmla="val 9922134"/>
                <a:gd name="adj2" fmla="val 877866"/>
                <a:gd name="adj3" fmla="val 5227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025880" y="4876920"/>
              <a:ext cx="609480" cy="68580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7885" stAng="10800000" swAng="5400000"/>
                  <a:lnTo>
                    <a:pt x="16481" y="4275"/>
                  </a:lnTo>
                  <a:lnTo>
                    <a:pt x="16481" y="0"/>
                  </a:lnTo>
                  <a:lnTo>
                    <a:pt x="21600" y="6079"/>
                  </a:lnTo>
                  <a:lnTo>
                    <a:pt x="16481" y="12158"/>
                  </a:lnTo>
                  <a:lnTo>
                    <a:pt x="16481" y="7883"/>
                  </a:lnTo>
                  <a:lnTo>
                    <a:pt x="12427" y="7883"/>
                  </a:lnTo>
                  <a:arcTo wR="8819" hR="4277" stAng="16200000" swAng="-5400000"/>
                  <a:lnTo>
                    <a:pt x="360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254480" y="5562720"/>
              <a:ext cx="228600" cy="228600"/>
            </a:xfrm>
            <a:prstGeom prst="flowChartCollat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60720" y="5659920"/>
              <a:ext cx="61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270080" y="5791320"/>
              <a:ext cx="990360" cy="75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000000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502320" y="5511960"/>
              <a:ext cx="990720" cy="75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000000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8456760" y="649836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t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035160" y="6629400"/>
              <a:ext cx="1752840" cy="228600"/>
            </a:xfrm>
            <a:prstGeom prst="rightArrow">
              <a:avLst>
                <a:gd name="adj1" fmla="val 50000"/>
                <a:gd name="adj2" fmla="val 191693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788000" y="6667560"/>
              <a:ext cx="761760" cy="152280"/>
            </a:xfrm>
            <a:prstGeom prst="rightArrow">
              <a:avLst>
                <a:gd name="adj1" fmla="val 50000"/>
                <a:gd name="adj2" fmla="val 125059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00008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537160" y="6667560"/>
              <a:ext cx="1752480" cy="15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122840" y="6574320"/>
              <a:ext cx="61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031840" y="6705720"/>
              <a:ext cx="990720" cy="75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000000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264440" y="6692760"/>
              <a:ext cx="990720" cy="763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000000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0" name=""/>
            <p:cNvGrpSpPr/>
            <p:nvPr/>
          </p:nvGrpSpPr>
          <p:grpSpPr>
            <a:xfrm>
              <a:off x="7543800" y="5334120"/>
              <a:ext cx="151920" cy="380880"/>
              <a:chOff x="7543800" y="5334120"/>
              <a:chExt cx="151920" cy="380880"/>
            </a:xfrm>
          </p:grpSpPr>
          <p:sp>
            <p:nvSpPr>
              <p:cNvPr id="581" name=""/>
              <p:cNvSpPr/>
              <p:nvPr/>
            </p:nvSpPr>
            <p:spPr>
              <a:xfrm>
                <a:off x="7543800" y="5352120"/>
                <a:ext cx="76320" cy="36288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619400" y="5334120"/>
                <a:ext cx="76320" cy="36288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3" name=""/>
            <p:cNvGrpSpPr/>
            <p:nvPr/>
          </p:nvGrpSpPr>
          <p:grpSpPr>
            <a:xfrm>
              <a:off x="1066680" y="5638680"/>
              <a:ext cx="152640" cy="381240"/>
              <a:chOff x="1066680" y="5638680"/>
              <a:chExt cx="152640" cy="381240"/>
            </a:xfrm>
          </p:grpSpPr>
          <p:sp>
            <p:nvSpPr>
              <p:cNvPr id="584" name=""/>
              <p:cNvSpPr/>
              <p:nvPr/>
            </p:nvSpPr>
            <p:spPr>
              <a:xfrm>
                <a:off x="1066680" y="5656680"/>
                <a:ext cx="76320" cy="36324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142640" y="5638680"/>
                <a:ext cx="76680" cy="36324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8305920" y="6477120"/>
              <a:ext cx="151920" cy="380880"/>
              <a:chOff x="8305920" y="6477120"/>
              <a:chExt cx="151920" cy="380880"/>
            </a:xfrm>
          </p:grpSpPr>
          <p:sp>
            <p:nvSpPr>
              <p:cNvPr id="587" name=""/>
              <p:cNvSpPr/>
              <p:nvPr/>
            </p:nvSpPr>
            <p:spPr>
              <a:xfrm>
                <a:off x="8305920" y="6495120"/>
                <a:ext cx="76320" cy="36288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8381520" y="6477120"/>
                <a:ext cx="76320" cy="36288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1828800" y="6553080"/>
              <a:ext cx="151920" cy="381240"/>
              <a:chOff x="1828800" y="6553080"/>
              <a:chExt cx="151920" cy="381240"/>
            </a:xfrm>
          </p:grpSpPr>
          <p:sp>
            <p:nvSpPr>
              <p:cNvPr id="590" name=""/>
              <p:cNvSpPr/>
              <p:nvPr/>
            </p:nvSpPr>
            <p:spPr>
              <a:xfrm>
                <a:off x="1828800" y="6571080"/>
                <a:ext cx="76320" cy="36324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1904400" y="6553080"/>
                <a:ext cx="76320" cy="36324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2" name=""/>
            <p:cNvSpPr/>
            <p:nvPr/>
          </p:nvSpPr>
          <p:spPr>
            <a:xfrm rot="5500200">
              <a:off x="5028480" y="6019560"/>
              <a:ext cx="609840" cy="304920"/>
            </a:xfrm>
            <a:custGeom>
              <a:avLst/>
              <a:gdLst>
                <a:gd name="textAreaLeft" fmla="*/ 95040 w 609840"/>
                <a:gd name="textAreaRight" fmla="*/ 533880 w 60984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410080" y="5105520"/>
              <a:ext cx="914400" cy="2286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NPH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740880" y="659880"/>
            <a:ext cx="8393400" cy="5590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NPHP1</a:t>
            </a:r>
            <a:endParaRPr b="1" lang="en-US" sz="2800" spc="-1" strike="noStrike">
              <a:solidFill>
                <a:srgbClr val="ff0b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79E3-0EFA-4F69-B5F3-015134B9972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 flipH="1">
            <a:off x="3776400" y="1968480"/>
            <a:ext cx="1020600" cy="4651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162400" y="1968480"/>
            <a:ext cx="3498840" cy="4651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975040" y="2631960"/>
            <a:ext cx="655560" cy="200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000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630600" y="2631960"/>
            <a:ext cx="5030640" cy="200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643200" y="2631960"/>
            <a:ext cx="146160" cy="2001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692760" y="2631960"/>
            <a:ext cx="146160" cy="2001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40640" y="2631960"/>
            <a:ext cx="146160" cy="2001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491680" y="2631960"/>
            <a:ext cx="144360" cy="2001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912000" y="2631960"/>
            <a:ext cx="217440" cy="200160"/>
          </a:xfrm>
          <a:custGeom>
            <a:avLst/>
            <a:gdLst>
              <a:gd name="textAreaLeft" fmla="*/ 49680 w 217440"/>
              <a:gd name="textAreaRight" fmla="*/ 167760 w 217440"/>
              <a:gd name="textAreaTop" fmla="*/ 45720 h 200160"/>
              <a:gd name="textAreaBottom" fmla="*/ 154440 h 200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dff7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7056360" y="2300400"/>
            <a:ext cx="1459080" cy="133200"/>
          </a:xfrm>
          <a:prstGeom prst="rightArrow">
            <a:avLst>
              <a:gd name="adj1" fmla="val 50000"/>
              <a:gd name="adj2" fmla="val 273851"/>
            </a:avLst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983280" y="1835280"/>
            <a:ext cx="5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8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3563280" y="3070080"/>
            <a:ext cx="5303520" cy="368280"/>
            <a:chOff x="3563280" y="3070080"/>
            <a:chExt cx="5303520" cy="368280"/>
          </a:xfrm>
        </p:grpSpPr>
        <p:sp>
          <p:nvSpPr>
            <p:cNvPr id="607" name=""/>
            <p:cNvSpPr/>
            <p:nvPr/>
          </p:nvSpPr>
          <p:spPr>
            <a:xfrm>
              <a:off x="3563280" y="30700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475320" y="307008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22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450200" y="307008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23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8424000" y="307008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2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4724280" y="1676520"/>
            <a:ext cx="6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8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630600" y="2944800"/>
            <a:ext cx="3425760" cy="331920"/>
          </a:xfrm>
          <a:prstGeom prst="leftArrow">
            <a:avLst>
              <a:gd name="adj1" fmla="val 56667"/>
              <a:gd name="adj2" fmla="val 14459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F8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6181560" y="2367000"/>
            <a:ext cx="874800" cy="331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654880" y="21016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p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03400" y="25614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8931600" y="256140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42960" y="2631960"/>
            <a:ext cx="2112840" cy="200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000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8734320" y="2300400"/>
            <a:ext cx="290160" cy="663120"/>
            <a:chOff x="8734320" y="2300400"/>
            <a:chExt cx="290160" cy="663120"/>
          </a:xfrm>
        </p:grpSpPr>
        <p:sp>
          <p:nvSpPr>
            <p:cNvPr id="619" name=""/>
            <p:cNvSpPr/>
            <p:nvPr/>
          </p:nvSpPr>
          <p:spPr>
            <a:xfrm>
              <a:off x="8734320" y="2331720"/>
              <a:ext cx="145440" cy="631800"/>
            </a:xfrm>
            <a:custGeom>
              <a:avLst/>
              <a:gdLst/>
              <a:ahLst/>
              <a:rect l="l" t="t" r="r" b="b"/>
              <a:pathLst>
                <a:path w="97" h="480">
                  <a:moveTo>
                    <a:pt x="0" y="0"/>
                  </a:moveTo>
                  <a:cubicBezTo>
                    <a:pt x="18" y="55"/>
                    <a:pt x="44" y="104"/>
                    <a:pt x="80" y="152"/>
                  </a:cubicBezTo>
                  <a:cubicBezTo>
                    <a:pt x="97" y="203"/>
                    <a:pt x="67" y="244"/>
                    <a:pt x="32" y="280"/>
                  </a:cubicBezTo>
                  <a:cubicBezTo>
                    <a:pt x="16" y="325"/>
                    <a:pt x="5" y="334"/>
                    <a:pt x="24" y="384"/>
                  </a:cubicBezTo>
                  <a:cubicBezTo>
                    <a:pt x="36" y="417"/>
                    <a:pt x="71" y="446"/>
                    <a:pt x="88" y="48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878680" y="2300400"/>
              <a:ext cx="145800" cy="631800"/>
            </a:xfrm>
            <a:custGeom>
              <a:avLst/>
              <a:gdLst/>
              <a:ahLst/>
              <a:rect l="l" t="t" r="r" b="b"/>
              <a:pathLst>
                <a:path w="97" h="480">
                  <a:moveTo>
                    <a:pt x="0" y="0"/>
                  </a:moveTo>
                  <a:cubicBezTo>
                    <a:pt x="18" y="55"/>
                    <a:pt x="44" y="104"/>
                    <a:pt x="80" y="152"/>
                  </a:cubicBezTo>
                  <a:cubicBezTo>
                    <a:pt x="97" y="203"/>
                    <a:pt x="67" y="244"/>
                    <a:pt x="32" y="280"/>
                  </a:cubicBezTo>
                  <a:cubicBezTo>
                    <a:pt x="16" y="325"/>
                    <a:pt x="5" y="334"/>
                    <a:pt x="24" y="384"/>
                  </a:cubicBezTo>
                  <a:cubicBezTo>
                    <a:pt x="36" y="417"/>
                    <a:pt x="71" y="446"/>
                    <a:pt x="88" y="48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2755800" y="2300400"/>
            <a:ext cx="291960" cy="663120"/>
            <a:chOff x="2755800" y="2300400"/>
            <a:chExt cx="291960" cy="663120"/>
          </a:xfrm>
        </p:grpSpPr>
        <p:sp>
          <p:nvSpPr>
            <p:cNvPr id="622" name=""/>
            <p:cNvSpPr/>
            <p:nvPr/>
          </p:nvSpPr>
          <p:spPr>
            <a:xfrm>
              <a:off x="2755800" y="2331720"/>
              <a:ext cx="146520" cy="631800"/>
            </a:xfrm>
            <a:custGeom>
              <a:avLst/>
              <a:gdLst/>
              <a:ahLst/>
              <a:rect l="l" t="t" r="r" b="b"/>
              <a:pathLst>
                <a:path w="97" h="480">
                  <a:moveTo>
                    <a:pt x="0" y="0"/>
                  </a:moveTo>
                  <a:cubicBezTo>
                    <a:pt x="18" y="55"/>
                    <a:pt x="44" y="104"/>
                    <a:pt x="80" y="152"/>
                  </a:cubicBezTo>
                  <a:cubicBezTo>
                    <a:pt x="97" y="203"/>
                    <a:pt x="67" y="244"/>
                    <a:pt x="32" y="280"/>
                  </a:cubicBezTo>
                  <a:cubicBezTo>
                    <a:pt x="16" y="325"/>
                    <a:pt x="5" y="334"/>
                    <a:pt x="24" y="384"/>
                  </a:cubicBezTo>
                  <a:cubicBezTo>
                    <a:pt x="36" y="417"/>
                    <a:pt x="71" y="446"/>
                    <a:pt x="88" y="48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900880" y="2300400"/>
              <a:ext cx="146880" cy="631800"/>
            </a:xfrm>
            <a:custGeom>
              <a:avLst/>
              <a:gdLst/>
              <a:ahLst/>
              <a:rect l="l" t="t" r="r" b="b"/>
              <a:pathLst>
                <a:path w="97" h="480">
                  <a:moveTo>
                    <a:pt x="0" y="0"/>
                  </a:moveTo>
                  <a:cubicBezTo>
                    <a:pt x="18" y="55"/>
                    <a:pt x="44" y="104"/>
                    <a:pt x="80" y="152"/>
                  </a:cubicBezTo>
                  <a:cubicBezTo>
                    <a:pt x="97" y="203"/>
                    <a:pt x="67" y="244"/>
                    <a:pt x="32" y="280"/>
                  </a:cubicBezTo>
                  <a:cubicBezTo>
                    <a:pt x="16" y="325"/>
                    <a:pt x="5" y="334"/>
                    <a:pt x="24" y="384"/>
                  </a:cubicBezTo>
                  <a:cubicBezTo>
                    <a:pt x="36" y="417"/>
                    <a:pt x="71" y="446"/>
                    <a:pt x="88" y="48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714240" y="2631960"/>
            <a:ext cx="365400" cy="200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F8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298520" y="2631960"/>
            <a:ext cx="363600" cy="200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F8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14240" y="2300400"/>
            <a:ext cx="58428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371600" y="2300400"/>
            <a:ext cx="58248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2180880" y="3581280"/>
            <a:ext cx="6939360" cy="1447920"/>
            <a:chOff x="2180880" y="3581280"/>
            <a:chExt cx="6939360" cy="1447920"/>
          </a:xfrm>
        </p:grpSpPr>
        <p:grpSp>
          <p:nvGrpSpPr>
            <p:cNvPr id="629" name=""/>
            <p:cNvGrpSpPr/>
            <p:nvPr/>
          </p:nvGrpSpPr>
          <p:grpSpPr>
            <a:xfrm>
              <a:off x="3024000" y="3581280"/>
              <a:ext cx="304560" cy="761760"/>
              <a:chOff x="3024000" y="3581280"/>
              <a:chExt cx="304560" cy="761760"/>
            </a:xfrm>
          </p:grpSpPr>
          <p:sp>
            <p:nvSpPr>
              <p:cNvPr id="630" name=""/>
              <p:cNvSpPr/>
              <p:nvPr/>
            </p:nvSpPr>
            <p:spPr>
              <a:xfrm>
                <a:off x="3024000" y="3617280"/>
                <a:ext cx="152640" cy="72576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3175560" y="3581280"/>
                <a:ext cx="153000" cy="72576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2" name=""/>
            <p:cNvSpPr/>
            <p:nvPr/>
          </p:nvSpPr>
          <p:spPr>
            <a:xfrm>
              <a:off x="3176640" y="3959280"/>
              <a:ext cx="685800" cy="168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862440" y="3959280"/>
              <a:ext cx="5257800" cy="16812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875040" y="3959280"/>
              <a:ext cx="152280" cy="168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062840" y="3959280"/>
              <a:ext cx="152280" cy="168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053200" y="3959280"/>
              <a:ext cx="152640" cy="168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942400" y="3959280"/>
              <a:ext cx="152280" cy="168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291440" y="3959280"/>
              <a:ext cx="228600" cy="168120"/>
            </a:xfrm>
            <a:custGeom>
              <a:avLst/>
              <a:gdLst>
                <a:gd name="textAreaLeft" fmla="*/ 52200 w 228600"/>
                <a:gd name="textAreaRight" fmla="*/ 176400 w 228600"/>
                <a:gd name="textAreaTop" fmla="*/ 38160 h 168120"/>
                <a:gd name="textAreaBottom" fmla="*/ 129960 h 16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dff7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443720" y="3733920"/>
              <a:ext cx="1523880" cy="112680"/>
            </a:xfrm>
            <a:prstGeom prst="rightArrow">
              <a:avLst>
                <a:gd name="adj1" fmla="val 50000"/>
                <a:gd name="adj2" fmla="val 338099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862440" y="4184640"/>
              <a:ext cx="3581280" cy="281160"/>
            </a:xfrm>
            <a:prstGeom prst="leftArrow">
              <a:avLst>
                <a:gd name="adj1" fmla="val 56667"/>
                <a:gd name="adj2" fmla="val 178443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F8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16239600">
              <a:off x="2344680" y="3803400"/>
              <a:ext cx="900000" cy="1217520"/>
            </a:xfrm>
            <a:prstGeom prst="blockArc">
              <a:avLst>
                <a:gd name="adj1" fmla="val 9722955"/>
                <a:gd name="adj2" fmla="val 1077045"/>
                <a:gd name="adj3" fmla="val 20727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717640" y="4680000"/>
              <a:ext cx="6400800" cy="181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977240" y="4691160"/>
              <a:ext cx="380880" cy="1699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F8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862440" y="4691160"/>
              <a:ext cx="3504960" cy="1699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F8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224400" y="5029200"/>
              <a:ext cx="6098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748640" y="5029200"/>
              <a:ext cx="6094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138800" y="4343400"/>
              <a:ext cx="304920" cy="304920"/>
            </a:xfrm>
            <a:prstGeom prst="flowChartCollat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8" name=""/>
          <p:cNvSpPr/>
          <p:nvPr/>
        </p:nvSpPr>
        <p:spPr>
          <a:xfrm>
            <a:off x="7007040" y="5592600"/>
            <a:ext cx="5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8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5380200"/>
            <a:ext cx="6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8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27160" y="56599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41200" y="6413400"/>
            <a:ext cx="68580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000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33320" y="6413400"/>
            <a:ext cx="462240" cy="2286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F8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025960" y="6400800"/>
            <a:ext cx="2113200" cy="200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000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7139160" y="6389640"/>
            <a:ext cx="1827000" cy="1634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945560" y="6389640"/>
            <a:ext cx="145800" cy="2001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8796240" y="6389640"/>
            <a:ext cx="144720" cy="2001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216920" y="6389640"/>
            <a:ext cx="217440" cy="200160"/>
          </a:xfrm>
          <a:custGeom>
            <a:avLst/>
            <a:gdLst>
              <a:gd name="textAreaLeft" fmla="*/ 49680 w 217440"/>
              <a:gd name="textAreaRight" fmla="*/ 167760 w 217440"/>
              <a:gd name="textAreaTop" fmla="*/ 45720 h 200160"/>
              <a:gd name="textAreaBottom" fmla="*/ 154440 h 200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dff7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361280" y="6058080"/>
            <a:ext cx="1458720" cy="133200"/>
          </a:xfrm>
          <a:prstGeom prst="rightArrow">
            <a:avLst>
              <a:gd name="adj1" fmla="val 50000"/>
              <a:gd name="adj2" fmla="val 273784"/>
            </a:avLst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739680" y="5791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858680" y="579132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756200" y="682776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8728920" y="68277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 flipV="1">
            <a:off x="6486480" y="6124320"/>
            <a:ext cx="874800" cy="331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959800" y="58593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p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9236520" y="631872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9039240" y="6058080"/>
            <a:ext cx="290160" cy="663120"/>
            <a:chOff x="9039240" y="6058080"/>
            <a:chExt cx="290160" cy="663120"/>
          </a:xfrm>
        </p:grpSpPr>
        <p:sp>
          <p:nvSpPr>
            <p:cNvPr id="667" name=""/>
            <p:cNvSpPr/>
            <p:nvPr/>
          </p:nvSpPr>
          <p:spPr>
            <a:xfrm>
              <a:off x="9039240" y="6089400"/>
              <a:ext cx="145440" cy="631800"/>
            </a:xfrm>
            <a:custGeom>
              <a:avLst/>
              <a:gdLst/>
              <a:ahLst/>
              <a:rect l="l" t="t" r="r" b="b"/>
              <a:pathLst>
                <a:path w="97" h="480">
                  <a:moveTo>
                    <a:pt x="0" y="0"/>
                  </a:moveTo>
                  <a:cubicBezTo>
                    <a:pt x="18" y="55"/>
                    <a:pt x="44" y="104"/>
                    <a:pt x="80" y="152"/>
                  </a:cubicBezTo>
                  <a:cubicBezTo>
                    <a:pt x="97" y="203"/>
                    <a:pt x="67" y="244"/>
                    <a:pt x="32" y="280"/>
                  </a:cubicBezTo>
                  <a:cubicBezTo>
                    <a:pt x="16" y="325"/>
                    <a:pt x="5" y="334"/>
                    <a:pt x="24" y="384"/>
                  </a:cubicBezTo>
                  <a:cubicBezTo>
                    <a:pt x="36" y="417"/>
                    <a:pt x="71" y="446"/>
                    <a:pt x="88" y="48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9183600" y="6058080"/>
              <a:ext cx="145800" cy="631800"/>
            </a:xfrm>
            <a:custGeom>
              <a:avLst/>
              <a:gdLst/>
              <a:ahLst/>
              <a:rect l="l" t="t" r="r" b="b"/>
              <a:pathLst>
                <a:path w="97" h="480">
                  <a:moveTo>
                    <a:pt x="0" y="0"/>
                  </a:moveTo>
                  <a:cubicBezTo>
                    <a:pt x="18" y="55"/>
                    <a:pt x="44" y="104"/>
                    <a:pt x="80" y="152"/>
                  </a:cubicBezTo>
                  <a:cubicBezTo>
                    <a:pt x="97" y="203"/>
                    <a:pt x="67" y="244"/>
                    <a:pt x="32" y="280"/>
                  </a:cubicBezTo>
                  <a:cubicBezTo>
                    <a:pt x="16" y="325"/>
                    <a:pt x="5" y="334"/>
                    <a:pt x="24" y="384"/>
                  </a:cubicBezTo>
                  <a:cubicBezTo>
                    <a:pt x="36" y="417"/>
                    <a:pt x="71" y="446"/>
                    <a:pt x="88" y="48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4776840" y="6019920"/>
            <a:ext cx="291600" cy="663120"/>
            <a:chOff x="4776840" y="6019920"/>
            <a:chExt cx="291600" cy="663120"/>
          </a:xfrm>
        </p:grpSpPr>
        <p:sp>
          <p:nvSpPr>
            <p:cNvPr id="670" name=""/>
            <p:cNvSpPr/>
            <p:nvPr/>
          </p:nvSpPr>
          <p:spPr>
            <a:xfrm>
              <a:off x="4776840" y="6051240"/>
              <a:ext cx="146160" cy="631800"/>
            </a:xfrm>
            <a:custGeom>
              <a:avLst/>
              <a:gdLst/>
              <a:ahLst/>
              <a:rect l="l" t="t" r="r" b="b"/>
              <a:pathLst>
                <a:path w="97" h="480">
                  <a:moveTo>
                    <a:pt x="0" y="0"/>
                  </a:moveTo>
                  <a:cubicBezTo>
                    <a:pt x="18" y="55"/>
                    <a:pt x="44" y="104"/>
                    <a:pt x="80" y="152"/>
                  </a:cubicBezTo>
                  <a:cubicBezTo>
                    <a:pt x="97" y="203"/>
                    <a:pt x="67" y="244"/>
                    <a:pt x="32" y="280"/>
                  </a:cubicBezTo>
                  <a:cubicBezTo>
                    <a:pt x="16" y="325"/>
                    <a:pt x="5" y="334"/>
                    <a:pt x="24" y="384"/>
                  </a:cubicBezTo>
                  <a:cubicBezTo>
                    <a:pt x="36" y="417"/>
                    <a:pt x="71" y="446"/>
                    <a:pt x="88" y="48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921920" y="6019920"/>
              <a:ext cx="146520" cy="631800"/>
            </a:xfrm>
            <a:custGeom>
              <a:avLst/>
              <a:gdLst/>
              <a:ahLst/>
              <a:rect l="l" t="t" r="r" b="b"/>
              <a:pathLst>
                <a:path w="97" h="480">
                  <a:moveTo>
                    <a:pt x="0" y="0"/>
                  </a:moveTo>
                  <a:cubicBezTo>
                    <a:pt x="18" y="55"/>
                    <a:pt x="44" y="104"/>
                    <a:pt x="80" y="152"/>
                  </a:cubicBezTo>
                  <a:cubicBezTo>
                    <a:pt x="97" y="203"/>
                    <a:pt x="67" y="244"/>
                    <a:pt x="32" y="280"/>
                  </a:cubicBezTo>
                  <a:cubicBezTo>
                    <a:pt x="16" y="325"/>
                    <a:pt x="5" y="334"/>
                    <a:pt x="24" y="384"/>
                  </a:cubicBezTo>
                  <a:cubicBezTo>
                    <a:pt x="36" y="417"/>
                    <a:pt x="71" y="446"/>
                    <a:pt x="88" y="48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"/>
          <p:cNvSpPr/>
          <p:nvPr/>
        </p:nvSpPr>
        <p:spPr>
          <a:xfrm>
            <a:off x="939960" y="6058080"/>
            <a:ext cx="2793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447920" y="6058080"/>
            <a:ext cx="32544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241280" y="6400800"/>
            <a:ext cx="462240" cy="2286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F8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736640" y="6389640"/>
            <a:ext cx="2113200" cy="2397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752480" y="6400800"/>
            <a:ext cx="146160" cy="2001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733920" y="6400800"/>
            <a:ext cx="228600" cy="225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962520" y="6400800"/>
            <a:ext cx="66204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000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438280" y="6058080"/>
            <a:ext cx="99072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600200" y="6781680"/>
            <a:ext cx="2362320" cy="228600"/>
          </a:xfrm>
          <a:prstGeom prst="rightArrow">
            <a:avLst>
              <a:gd name="adj1" fmla="val 50000"/>
              <a:gd name="adj2" fmla="val 258346"/>
            </a:avLst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8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rot="5383800">
            <a:off x="4798800" y="5371920"/>
            <a:ext cx="685800" cy="304560"/>
          </a:xfrm>
          <a:custGeom>
            <a:avLst/>
            <a:gdLst>
              <a:gd name="textAreaLeft" fmla="*/ 10692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10"/>
          <a:stretch/>
        </p:blipFill>
        <p:spPr>
          <a:xfrm>
            <a:off x="304920" y="838080"/>
            <a:ext cx="4519440" cy="660600"/>
          </a:xfrm>
          <a:prstGeom prst="rect">
            <a:avLst/>
          </a:prstGeom>
          <a:ln w="0">
            <a:noFill/>
          </a:ln>
        </p:spPr>
      </p:pic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208160" y="152280"/>
            <a:ext cx="839304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Inversione in Xq28 :Emofilia A</a:t>
            </a:r>
            <a:endParaRPr b="1" lang="en-US" sz="2800" spc="-1" strike="noStrike">
              <a:solidFill>
                <a:srgbClr val="ff0b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45EF-72E9-4543-8D92-555A6574F97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f0b00"/>
                </a:solidFill>
                <a:latin typeface="Comic Sans MS"/>
              </a:rPr>
              <a:t>Difficolta’ di indentificazione delle mutazioni</a:t>
            </a:r>
            <a:endParaRPr b="1" lang="en-US" sz="2800" spc="-1" strike="noStrike">
              <a:solidFill>
                <a:srgbClr val="ff0b00"/>
              </a:solidFill>
              <a:latin typeface="Comic Sans MS"/>
            </a:endParaRPr>
          </a:p>
        </p:txBody>
      </p:sp>
      <p:sp>
        <p:nvSpPr>
          <p:cNvPr id="685" name=""/>
          <p:cNvSpPr/>
          <p:nvPr/>
        </p:nvSpPr>
        <p:spPr>
          <a:xfrm>
            <a:off x="400680" y="4288320"/>
            <a:ext cx="914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n questo caso non si riusciva a trovare la mutazione perche’ si test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’assenza degli esoni con PCR e si aveva amplificato, in realta’ gli eson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’erano ma il gene non poteva funzionare perche’ era stato altera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all’invers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77560" y="2383200"/>
            <a:ext cx="9460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Una parte degli affetti da emofilia A presenta delezione del gene parzi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otale, quando si cercavano le mutazioni c’erano alcuni pazienti emofili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n deficienza di Fattore VIII, ma non erano deleti e si comincio’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 pensare alla presenza di un altro locus 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7BCC-5D00-4656-A907-4077F951A8F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635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Williams-Beuren syndrome (WBS)</a:t>
            </a:r>
            <a:endParaRPr b="1" lang="en-US" sz="2800" spc="-1" strike="noStrike">
              <a:solidFill>
                <a:srgbClr val="ff0b00"/>
              </a:solidFill>
              <a:latin typeface="Comic Sans MS"/>
            </a:endParaRPr>
          </a:p>
        </p:txBody>
      </p:sp>
      <p:sp>
        <p:nvSpPr>
          <p:cNvPr id="688" name=""/>
          <p:cNvSpPr/>
          <p:nvPr/>
        </p:nvSpPr>
        <p:spPr>
          <a:xfrm>
            <a:off x="990720" y="6858000"/>
            <a:ext cx="5181480" cy="49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268560" y="3057480"/>
            <a:ext cx="9412920" cy="828360"/>
            <a:chOff x="268560" y="3057480"/>
            <a:chExt cx="9412920" cy="828360"/>
          </a:xfrm>
        </p:grpSpPr>
        <p:sp>
          <p:nvSpPr>
            <p:cNvPr id="690" name=""/>
            <p:cNvSpPr/>
            <p:nvPr/>
          </p:nvSpPr>
          <p:spPr>
            <a:xfrm>
              <a:off x="6788160" y="3514680"/>
              <a:ext cx="577800" cy="1652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127160" y="3514680"/>
              <a:ext cx="774720" cy="1652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80880" y="3514680"/>
              <a:ext cx="470160" cy="1652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rot="5720400">
              <a:off x="771120" y="3505320"/>
              <a:ext cx="279360" cy="177840"/>
            </a:xfrm>
            <a:prstGeom prst="can">
              <a:avLst>
                <a:gd name="adj" fmla="val 25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4" name=""/>
            <p:cNvGrpSpPr/>
            <p:nvPr/>
          </p:nvGrpSpPr>
          <p:grpSpPr>
            <a:xfrm>
              <a:off x="998640" y="3286080"/>
              <a:ext cx="117360" cy="599760"/>
              <a:chOff x="998640" y="3286080"/>
              <a:chExt cx="117360" cy="599760"/>
            </a:xfrm>
          </p:grpSpPr>
          <p:sp>
            <p:nvSpPr>
              <p:cNvPr id="695" name=""/>
              <p:cNvSpPr/>
              <p:nvPr/>
            </p:nvSpPr>
            <p:spPr>
              <a:xfrm>
                <a:off x="998640" y="3314520"/>
                <a:ext cx="58680" cy="57132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1056960" y="3286080"/>
                <a:ext cx="59040" cy="57132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7" name=""/>
            <p:cNvSpPr/>
            <p:nvPr/>
          </p:nvSpPr>
          <p:spPr>
            <a:xfrm>
              <a:off x="1812960" y="3514680"/>
              <a:ext cx="522360" cy="309600"/>
            </a:xfrm>
            <a:prstGeom prst="rightArrow">
              <a:avLst>
                <a:gd name="adj1" fmla="val 50000"/>
                <a:gd name="adj2" fmla="val 4218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327400" y="3522600"/>
              <a:ext cx="522000" cy="311040"/>
            </a:xfrm>
            <a:prstGeom prst="rightArrow">
              <a:avLst>
                <a:gd name="adj1" fmla="val 50000"/>
                <a:gd name="adj2" fmla="val 41956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840040" y="3522600"/>
              <a:ext cx="522360" cy="311040"/>
            </a:xfrm>
            <a:prstGeom prst="rightArrow">
              <a:avLst>
                <a:gd name="adj1" fmla="val 50000"/>
                <a:gd name="adj2" fmla="val 41985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362400" y="3525840"/>
              <a:ext cx="285840" cy="309600"/>
            </a:xfrm>
            <a:prstGeom prst="right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726000" y="3514680"/>
              <a:ext cx="2124000" cy="1522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754600" y="3527280"/>
              <a:ext cx="522360" cy="311400"/>
            </a:xfrm>
            <a:prstGeom prst="rightArrow">
              <a:avLst>
                <a:gd name="adj1" fmla="val 50000"/>
                <a:gd name="adj2" fmla="val 41936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275520" y="3527280"/>
              <a:ext cx="522000" cy="311400"/>
            </a:xfrm>
            <a:prstGeom prst="rightArrow">
              <a:avLst>
                <a:gd name="adj1" fmla="val 50000"/>
                <a:gd name="adj2" fmla="val 41908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201080" y="3514680"/>
              <a:ext cx="531720" cy="304920"/>
            </a:xfrm>
            <a:prstGeom prst="leftArrow">
              <a:avLst>
                <a:gd name="adj1" fmla="val 50000"/>
                <a:gd name="adj2" fmla="val 43595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709040" y="3514680"/>
              <a:ext cx="533160" cy="304920"/>
            </a:xfrm>
            <a:prstGeom prst="leftArrow">
              <a:avLst>
                <a:gd name="adj1" fmla="val 50000"/>
                <a:gd name="adj2" fmla="val 43713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8229600" y="3514680"/>
              <a:ext cx="533520" cy="304920"/>
            </a:xfrm>
            <a:prstGeom prst="leftArrow">
              <a:avLst>
                <a:gd name="adj1" fmla="val 50000"/>
                <a:gd name="adj2" fmla="val 43743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763120" y="3514680"/>
              <a:ext cx="304560" cy="1652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8" name=""/>
            <p:cNvGrpSpPr/>
            <p:nvPr/>
          </p:nvGrpSpPr>
          <p:grpSpPr>
            <a:xfrm>
              <a:off x="9067680" y="3286080"/>
              <a:ext cx="117360" cy="599760"/>
              <a:chOff x="9067680" y="3286080"/>
              <a:chExt cx="117360" cy="599760"/>
            </a:xfrm>
          </p:grpSpPr>
          <p:sp>
            <p:nvSpPr>
              <p:cNvPr id="709" name=""/>
              <p:cNvSpPr/>
              <p:nvPr/>
            </p:nvSpPr>
            <p:spPr>
              <a:xfrm>
                <a:off x="9067680" y="3314520"/>
                <a:ext cx="59040" cy="57132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9126000" y="3286080"/>
                <a:ext cx="59040" cy="57132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1" name=""/>
            <p:cNvSpPr/>
            <p:nvPr/>
          </p:nvSpPr>
          <p:spPr>
            <a:xfrm>
              <a:off x="9220320" y="3514680"/>
              <a:ext cx="304560" cy="1652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68560" y="3085560"/>
              <a:ext cx="63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c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9162360" y="3080880"/>
              <a:ext cx="51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t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V="1">
              <a:off x="4724280" y="305748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09880" y="3530520"/>
              <a:ext cx="152640" cy="152640"/>
            </a:xfrm>
            <a:prstGeom prst="irregularSeal1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038480" y="3530520"/>
              <a:ext cx="152640" cy="152640"/>
            </a:xfrm>
            <a:prstGeom prst="irregularSeal1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267080" y="3543480"/>
              <a:ext cx="152640" cy="152280"/>
            </a:xfrm>
            <a:prstGeom prst="irregularSeal1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105520" y="3530520"/>
              <a:ext cx="152280" cy="152640"/>
            </a:xfrm>
            <a:prstGeom prst="irregularSeal1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334120" y="3543480"/>
              <a:ext cx="152280" cy="152280"/>
            </a:xfrm>
            <a:prstGeom prst="irregularSeal1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562720" y="3543480"/>
              <a:ext cx="152280" cy="152280"/>
            </a:xfrm>
            <a:prstGeom prst="irregularSeal1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584600" y="3505320"/>
              <a:ext cx="304920" cy="20304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266760" y="5050440"/>
            <a:ext cx="9413280" cy="807120"/>
            <a:chOff x="266760" y="5050440"/>
            <a:chExt cx="9413280" cy="807120"/>
          </a:xfrm>
        </p:grpSpPr>
        <p:grpSp>
          <p:nvGrpSpPr>
            <p:cNvPr id="723" name=""/>
            <p:cNvGrpSpPr/>
            <p:nvPr/>
          </p:nvGrpSpPr>
          <p:grpSpPr>
            <a:xfrm>
              <a:off x="266760" y="5052600"/>
              <a:ext cx="9413280" cy="804960"/>
              <a:chOff x="266760" y="5052600"/>
              <a:chExt cx="9413280" cy="804960"/>
            </a:xfrm>
          </p:grpSpPr>
          <p:sp>
            <p:nvSpPr>
              <p:cNvPr id="724" name=""/>
              <p:cNvSpPr/>
              <p:nvPr/>
            </p:nvSpPr>
            <p:spPr>
              <a:xfrm>
                <a:off x="3716280" y="5486400"/>
                <a:ext cx="482760" cy="1429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4097160" y="5476680"/>
                <a:ext cx="533520" cy="304920"/>
              </a:xfrm>
              <a:prstGeom prst="leftArrow">
                <a:avLst>
                  <a:gd name="adj1" fmla="val 50000"/>
                  <a:gd name="adj2" fmla="val 43743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0000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4606920" y="5464080"/>
                <a:ext cx="531720" cy="304920"/>
              </a:xfrm>
              <a:prstGeom prst="leftArrow">
                <a:avLst>
                  <a:gd name="adj1" fmla="val 50000"/>
                  <a:gd name="adj2" fmla="val 43595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7" name=""/>
              <p:cNvGrpSpPr/>
              <p:nvPr/>
            </p:nvGrpSpPr>
            <p:grpSpPr>
              <a:xfrm>
                <a:off x="5189400" y="5489640"/>
                <a:ext cx="2124000" cy="203040"/>
                <a:chOff x="5189400" y="5489640"/>
                <a:chExt cx="2124000" cy="203040"/>
              </a:xfrm>
            </p:grpSpPr>
            <p:sp>
              <p:nvSpPr>
                <p:cNvPr id="728" name=""/>
                <p:cNvSpPr/>
                <p:nvPr/>
              </p:nvSpPr>
              <p:spPr>
                <a:xfrm>
                  <a:off x="5189400" y="5499000"/>
                  <a:ext cx="2124000" cy="1519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08080"/>
                    </a:gs>
                    <a:gs pos="100000">
                      <a:srgbClr val="ffffff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5273640" y="5514840"/>
                  <a:ext cx="152280" cy="151920"/>
                </a:xfrm>
                <a:prstGeom prst="irregularSeal1">
                  <a:avLst/>
                </a:prstGeom>
                <a:solidFill>
                  <a:srgbClr val="9933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5502240" y="5514840"/>
                  <a:ext cx="152280" cy="151920"/>
                </a:xfrm>
                <a:prstGeom prst="irregularSeal1">
                  <a:avLst/>
                </a:prstGeom>
                <a:solidFill>
                  <a:srgbClr val="9933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5730840" y="5527440"/>
                  <a:ext cx="152280" cy="152280"/>
                </a:xfrm>
                <a:prstGeom prst="irregularSeal1">
                  <a:avLst/>
                </a:prstGeom>
                <a:solidFill>
                  <a:srgbClr val="9933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6568920" y="5514840"/>
                  <a:ext cx="152640" cy="151920"/>
                </a:xfrm>
                <a:prstGeom prst="irregularSeal1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6797520" y="5527440"/>
                  <a:ext cx="152640" cy="152280"/>
                </a:xfrm>
                <a:prstGeom prst="irregularSeal1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7026120" y="5527440"/>
                  <a:ext cx="152640" cy="152280"/>
                </a:xfrm>
                <a:prstGeom prst="irregularSeal1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6048360" y="5489640"/>
                  <a:ext cx="304560" cy="203040"/>
                </a:xfrm>
                <a:prstGeom prst="irregularSeal1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6" name=""/>
              <p:cNvSpPr/>
              <p:nvPr/>
            </p:nvSpPr>
            <p:spPr>
              <a:xfrm>
                <a:off x="1125360" y="5486400"/>
                <a:ext cx="774720" cy="16488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379440" y="5486400"/>
                <a:ext cx="469800" cy="16488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rot="5720400">
                <a:off x="769680" y="5476680"/>
                <a:ext cx="279360" cy="17784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9" name=""/>
              <p:cNvGrpSpPr/>
              <p:nvPr/>
            </p:nvGrpSpPr>
            <p:grpSpPr>
              <a:xfrm>
                <a:off x="996840" y="5257800"/>
                <a:ext cx="117360" cy="599760"/>
                <a:chOff x="996840" y="5257800"/>
                <a:chExt cx="117360" cy="59976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996840" y="5286240"/>
                  <a:ext cx="59040" cy="571320"/>
                </a:xfrm>
                <a:custGeom>
                  <a:avLst/>
                  <a:gdLst/>
                  <a:ahLst/>
                  <a:rect l="l" t="t" r="r" b="b"/>
                  <a:pathLst>
                    <a:path w="97" h="480">
                      <a:moveTo>
                        <a:pt x="0" y="0"/>
                      </a:moveTo>
                      <a:cubicBezTo>
                        <a:pt x="18" y="55"/>
                        <a:pt x="44" y="104"/>
                        <a:pt x="80" y="152"/>
                      </a:cubicBezTo>
                      <a:cubicBezTo>
                        <a:pt x="97" y="203"/>
                        <a:pt x="67" y="244"/>
                        <a:pt x="32" y="280"/>
                      </a:cubicBezTo>
                      <a:cubicBezTo>
                        <a:pt x="16" y="325"/>
                        <a:pt x="5" y="334"/>
                        <a:pt x="24" y="384"/>
                      </a:cubicBezTo>
                      <a:cubicBezTo>
                        <a:pt x="36" y="417"/>
                        <a:pt x="71" y="446"/>
                        <a:pt x="88" y="4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1055160" y="5257800"/>
                  <a:ext cx="59040" cy="571320"/>
                </a:xfrm>
                <a:custGeom>
                  <a:avLst/>
                  <a:gdLst/>
                  <a:ahLst/>
                  <a:rect l="l" t="t" r="r" b="b"/>
                  <a:pathLst>
                    <a:path w="97" h="480">
                      <a:moveTo>
                        <a:pt x="0" y="0"/>
                      </a:moveTo>
                      <a:cubicBezTo>
                        <a:pt x="18" y="55"/>
                        <a:pt x="44" y="104"/>
                        <a:pt x="80" y="152"/>
                      </a:cubicBezTo>
                      <a:cubicBezTo>
                        <a:pt x="97" y="203"/>
                        <a:pt x="67" y="244"/>
                        <a:pt x="32" y="280"/>
                      </a:cubicBezTo>
                      <a:cubicBezTo>
                        <a:pt x="16" y="325"/>
                        <a:pt x="5" y="334"/>
                        <a:pt x="24" y="384"/>
                      </a:cubicBezTo>
                      <a:cubicBezTo>
                        <a:pt x="36" y="417"/>
                        <a:pt x="71" y="446"/>
                        <a:pt x="88" y="4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2" name=""/>
              <p:cNvSpPr/>
              <p:nvPr/>
            </p:nvSpPr>
            <p:spPr>
              <a:xfrm>
                <a:off x="1811160" y="5486400"/>
                <a:ext cx="522360" cy="309600"/>
              </a:xfrm>
              <a:prstGeom prst="rightArrow">
                <a:avLst>
                  <a:gd name="adj1" fmla="val 50000"/>
                  <a:gd name="adj2" fmla="val 4218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325600" y="5494320"/>
                <a:ext cx="522360" cy="311040"/>
              </a:xfrm>
              <a:prstGeom prst="rightArrow">
                <a:avLst>
                  <a:gd name="adj1" fmla="val 50000"/>
                  <a:gd name="adj2" fmla="val 41985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0000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2838600" y="5494320"/>
                <a:ext cx="522000" cy="311040"/>
              </a:xfrm>
              <a:prstGeom prst="rightArrow">
                <a:avLst>
                  <a:gd name="adj1" fmla="val 50000"/>
                  <a:gd name="adj2" fmla="val 41956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3360600" y="5497560"/>
                <a:ext cx="285840" cy="30960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199280" y="5486400"/>
                <a:ext cx="531720" cy="304560"/>
              </a:xfrm>
              <a:prstGeom prst="leftArrow">
                <a:avLst>
                  <a:gd name="adj1" fmla="val 50000"/>
                  <a:gd name="adj2" fmla="val 43647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707240" y="5486400"/>
                <a:ext cx="533520" cy="304560"/>
              </a:xfrm>
              <a:prstGeom prst="leftArrow">
                <a:avLst>
                  <a:gd name="adj1" fmla="val 50000"/>
                  <a:gd name="adj2" fmla="val 43794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0000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8228160" y="5486400"/>
                <a:ext cx="533160" cy="304560"/>
              </a:xfrm>
              <a:prstGeom prst="leftArrow">
                <a:avLst>
                  <a:gd name="adj1" fmla="val 50000"/>
                  <a:gd name="adj2" fmla="val 43765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8761320" y="5486400"/>
                <a:ext cx="304920" cy="16488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0" name=""/>
              <p:cNvGrpSpPr/>
              <p:nvPr/>
            </p:nvGrpSpPr>
            <p:grpSpPr>
              <a:xfrm>
                <a:off x="9066240" y="5257800"/>
                <a:ext cx="117360" cy="599760"/>
                <a:chOff x="9066240" y="5257800"/>
                <a:chExt cx="117360" cy="599760"/>
              </a:xfrm>
            </p:grpSpPr>
            <p:sp>
              <p:nvSpPr>
                <p:cNvPr id="751" name=""/>
                <p:cNvSpPr/>
                <p:nvPr/>
              </p:nvSpPr>
              <p:spPr>
                <a:xfrm>
                  <a:off x="9066240" y="5286240"/>
                  <a:ext cx="58680" cy="571320"/>
                </a:xfrm>
                <a:custGeom>
                  <a:avLst/>
                  <a:gdLst/>
                  <a:ahLst/>
                  <a:rect l="l" t="t" r="r" b="b"/>
                  <a:pathLst>
                    <a:path w="97" h="480">
                      <a:moveTo>
                        <a:pt x="0" y="0"/>
                      </a:moveTo>
                      <a:cubicBezTo>
                        <a:pt x="18" y="55"/>
                        <a:pt x="44" y="104"/>
                        <a:pt x="80" y="152"/>
                      </a:cubicBezTo>
                      <a:cubicBezTo>
                        <a:pt x="97" y="203"/>
                        <a:pt x="67" y="244"/>
                        <a:pt x="32" y="280"/>
                      </a:cubicBezTo>
                      <a:cubicBezTo>
                        <a:pt x="16" y="325"/>
                        <a:pt x="5" y="334"/>
                        <a:pt x="24" y="384"/>
                      </a:cubicBezTo>
                      <a:cubicBezTo>
                        <a:pt x="36" y="417"/>
                        <a:pt x="71" y="446"/>
                        <a:pt x="88" y="4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9124560" y="5257800"/>
                  <a:ext cx="59040" cy="571320"/>
                </a:xfrm>
                <a:custGeom>
                  <a:avLst/>
                  <a:gdLst/>
                  <a:ahLst/>
                  <a:rect l="l" t="t" r="r" b="b"/>
                  <a:pathLst>
                    <a:path w="97" h="480">
                      <a:moveTo>
                        <a:pt x="0" y="0"/>
                      </a:moveTo>
                      <a:cubicBezTo>
                        <a:pt x="18" y="55"/>
                        <a:pt x="44" y="104"/>
                        <a:pt x="80" y="152"/>
                      </a:cubicBezTo>
                      <a:cubicBezTo>
                        <a:pt x="97" y="203"/>
                        <a:pt x="67" y="244"/>
                        <a:pt x="32" y="280"/>
                      </a:cubicBezTo>
                      <a:cubicBezTo>
                        <a:pt x="16" y="325"/>
                        <a:pt x="5" y="334"/>
                        <a:pt x="24" y="384"/>
                      </a:cubicBezTo>
                      <a:cubicBezTo>
                        <a:pt x="36" y="417"/>
                        <a:pt x="71" y="446"/>
                        <a:pt x="88" y="4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3" name=""/>
              <p:cNvSpPr/>
              <p:nvPr/>
            </p:nvSpPr>
            <p:spPr>
              <a:xfrm>
                <a:off x="9218520" y="5486400"/>
                <a:ext cx="304920" cy="16488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266760" y="5057280"/>
                <a:ext cx="63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ce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9160920" y="5052600"/>
                <a:ext cx="519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te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6" name=""/>
            <p:cNvSpPr/>
            <p:nvPr/>
          </p:nvSpPr>
          <p:spPr>
            <a:xfrm>
              <a:off x="6153480" y="5050440"/>
              <a:ext cx="258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romosoma inverti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233280" y="3809880"/>
            <a:ext cx="7389000" cy="1151640"/>
            <a:chOff x="233280" y="3809880"/>
            <a:chExt cx="7389000" cy="1151640"/>
          </a:xfrm>
        </p:grpSpPr>
        <p:sp>
          <p:nvSpPr>
            <p:cNvPr id="758" name=""/>
            <p:cNvSpPr/>
            <p:nvPr/>
          </p:nvSpPr>
          <p:spPr>
            <a:xfrm>
              <a:off x="2383920" y="4593240"/>
              <a:ext cx="231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romosoma dele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9" name=""/>
            <p:cNvGrpSpPr/>
            <p:nvPr/>
          </p:nvGrpSpPr>
          <p:grpSpPr>
            <a:xfrm>
              <a:off x="233280" y="3809880"/>
              <a:ext cx="7389000" cy="928440"/>
              <a:chOff x="233280" y="3809880"/>
              <a:chExt cx="7389000" cy="928440"/>
            </a:xfrm>
          </p:grpSpPr>
          <p:grpSp>
            <p:nvGrpSpPr>
              <p:cNvPr id="760" name=""/>
              <p:cNvGrpSpPr/>
              <p:nvPr/>
            </p:nvGrpSpPr>
            <p:grpSpPr>
              <a:xfrm>
                <a:off x="233280" y="3933360"/>
                <a:ext cx="7389000" cy="804960"/>
                <a:chOff x="233280" y="3933360"/>
                <a:chExt cx="7389000" cy="804960"/>
              </a:xfrm>
            </p:grpSpPr>
            <p:sp>
              <p:nvSpPr>
                <p:cNvPr id="761" name=""/>
                <p:cNvSpPr/>
                <p:nvPr/>
              </p:nvSpPr>
              <p:spPr>
                <a:xfrm>
                  <a:off x="4728960" y="4367160"/>
                  <a:ext cx="577800" cy="16524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08080"/>
                    </a:gs>
                    <a:gs pos="100000">
                      <a:srgbClr val="ffffff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1092240" y="4367160"/>
                  <a:ext cx="774360" cy="16524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08080"/>
                    </a:gs>
                    <a:gs pos="100000">
                      <a:srgbClr val="ffffff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345960" y="4367160"/>
                  <a:ext cx="469440" cy="16524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08080"/>
                    </a:gs>
                    <a:gs pos="100000">
                      <a:srgbClr val="ffffff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 rot="5720400">
                  <a:off x="735840" y="4357800"/>
                  <a:ext cx="279360" cy="17748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65" name=""/>
                <p:cNvGrpSpPr/>
                <p:nvPr/>
              </p:nvGrpSpPr>
              <p:grpSpPr>
                <a:xfrm>
                  <a:off x="963720" y="4138560"/>
                  <a:ext cx="116640" cy="599760"/>
                  <a:chOff x="963720" y="4138560"/>
                  <a:chExt cx="116640" cy="599760"/>
                </a:xfrm>
              </p:grpSpPr>
              <p:sp>
                <p:nvSpPr>
                  <p:cNvPr id="766" name=""/>
                  <p:cNvSpPr/>
                  <p:nvPr/>
                </p:nvSpPr>
                <p:spPr>
                  <a:xfrm>
                    <a:off x="963720" y="4167000"/>
                    <a:ext cx="58680" cy="5713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480">
                        <a:moveTo>
                          <a:pt x="0" y="0"/>
                        </a:moveTo>
                        <a:cubicBezTo>
                          <a:pt x="18" y="55"/>
                          <a:pt x="44" y="104"/>
                          <a:pt x="80" y="152"/>
                        </a:cubicBezTo>
                        <a:cubicBezTo>
                          <a:pt x="97" y="203"/>
                          <a:pt x="67" y="244"/>
                          <a:pt x="32" y="280"/>
                        </a:cubicBezTo>
                        <a:cubicBezTo>
                          <a:pt x="16" y="325"/>
                          <a:pt x="5" y="334"/>
                          <a:pt x="24" y="384"/>
                        </a:cubicBezTo>
                        <a:cubicBezTo>
                          <a:pt x="36" y="417"/>
                          <a:pt x="71" y="446"/>
                          <a:pt x="88" y="48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7" name=""/>
                  <p:cNvSpPr/>
                  <p:nvPr/>
                </p:nvSpPr>
                <p:spPr>
                  <a:xfrm>
                    <a:off x="1021680" y="4138560"/>
                    <a:ext cx="58680" cy="5713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480">
                        <a:moveTo>
                          <a:pt x="0" y="0"/>
                        </a:moveTo>
                        <a:cubicBezTo>
                          <a:pt x="18" y="55"/>
                          <a:pt x="44" y="104"/>
                          <a:pt x="80" y="152"/>
                        </a:cubicBezTo>
                        <a:cubicBezTo>
                          <a:pt x="97" y="203"/>
                          <a:pt x="67" y="244"/>
                          <a:pt x="32" y="280"/>
                        </a:cubicBezTo>
                        <a:cubicBezTo>
                          <a:pt x="16" y="325"/>
                          <a:pt x="5" y="334"/>
                          <a:pt x="24" y="384"/>
                        </a:cubicBezTo>
                        <a:cubicBezTo>
                          <a:pt x="36" y="417"/>
                          <a:pt x="71" y="446"/>
                          <a:pt x="88" y="48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68" name=""/>
                <p:cNvSpPr/>
                <p:nvPr/>
              </p:nvSpPr>
              <p:spPr>
                <a:xfrm>
                  <a:off x="1778040" y="4367160"/>
                  <a:ext cx="522000" cy="309600"/>
                </a:xfrm>
                <a:prstGeom prst="rightArrow">
                  <a:avLst>
                    <a:gd name="adj1" fmla="val 50000"/>
                    <a:gd name="adj2" fmla="val 42151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2292120" y="4375080"/>
                  <a:ext cx="522000" cy="311040"/>
                </a:xfrm>
                <a:prstGeom prst="rightArrow">
                  <a:avLst>
                    <a:gd name="adj1" fmla="val 50000"/>
                    <a:gd name="adj2" fmla="val 41956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f0000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2805120" y="4375080"/>
                  <a:ext cx="522000" cy="311040"/>
                </a:xfrm>
                <a:prstGeom prst="rightArrow">
                  <a:avLst>
                    <a:gd name="adj1" fmla="val 50000"/>
                    <a:gd name="adj2" fmla="val 41956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f9900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B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3327480" y="4378320"/>
                  <a:ext cx="285120" cy="309600"/>
                </a:xfrm>
                <a:prstGeom prst="rightArrow">
                  <a:avLst>
                    <a:gd name="adj1" fmla="val 50000"/>
                    <a:gd name="adj2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3695760" y="4379760"/>
                  <a:ext cx="521640" cy="311400"/>
                </a:xfrm>
                <a:prstGeom prst="rightArrow">
                  <a:avLst>
                    <a:gd name="adj1" fmla="val 50000"/>
                    <a:gd name="adj2" fmla="val 41879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f9900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B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4216320" y="4379760"/>
                  <a:ext cx="522000" cy="311400"/>
                </a:xfrm>
                <a:prstGeom prst="rightArrow">
                  <a:avLst>
                    <a:gd name="adj1" fmla="val 50000"/>
                    <a:gd name="adj2" fmla="val 41908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f0000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5141880" y="4367160"/>
                  <a:ext cx="531360" cy="304920"/>
                </a:xfrm>
                <a:prstGeom prst="leftArrow">
                  <a:avLst>
                    <a:gd name="adj1" fmla="val 50000"/>
                    <a:gd name="adj2" fmla="val 43566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f9900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B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5649840" y="4367160"/>
                  <a:ext cx="533160" cy="304920"/>
                </a:xfrm>
                <a:prstGeom prst="leftArrow">
                  <a:avLst>
                    <a:gd name="adj1" fmla="val 50000"/>
                    <a:gd name="adj2" fmla="val 43713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f0000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6170400" y="4367160"/>
                  <a:ext cx="533160" cy="304920"/>
                </a:xfrm>
                <a:prstGeom prst="leftArrow">
                  <a:avLst>
                    <a:gd name="adj1" fmla="val 50000"/>
                    <a:gd name="adj2" fmla="val 43713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6703920" y="4367160"/>
                  <a:ext cx="304560" cy="16524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08080"/>
                    </a:gs>
                    <a:gs pos="100000">
                      <a:srgbClr val="ffffff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78" name=""/>
                <p:cNvGrpSpPr/>
                <p:nvPr/>
              </p:nvGrpSpPr>
              <p:grpSpPr>
                <a:xfrm>
                  <a:off x="7008840" y="4138560"/>
                  <a:ext cx="116640" cy="599760"/>
                  <a:chOff x="7008840" y="4138560"/>
                  <a:chExt cx="116640" cy="599760"/>
                </a:xfrm>
              </p:grpSpPr>
              <p:sp>
                <p:nvSpPr>
                  <p:cNvPr id="779" name=""/>
                  <p:cNvSpPr/>
                  <p:nvPr/>
                </p:nvSpPr>
                <p:spPr>
                  <a:xfrm>
                    <a:off x="7008840" y="4167000"/>
                    <a:ext cx="58680" cy="5713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480">
                        <a:moveTo>
                          <a:pt x="0" y="0"/>
                        </a:moveTo>
                        <a:cubicBezTo>
                          <a:pt x="18" y="55"/>
                          <a:pt x="44" y="104"/>
                          <a:pt x="80" y="152"/>
                        </a:cubicBezTo>
                        <a:cubicBezTo>
                          <a:pt x="97" y="203"/>
                          <a:pt x="67" y="244"/>
                          <a:pt x="32" y="280"/>
                        </a:cubicBezTo>
                        <a:cubicBezTo>
                          <a:pt x="16" y="325"/>
                          <a:pt x="5" y="334"/>
                          <a:pt x="24" y="384"/>
                        </a:cubicBezTo>
                        <a:cubicBezTo>
                          <a:pt x="36" y="417"/>
                          <a:pt x="71" y="446"/>
                          <a:pt x="88" y="48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>
                    <a:off x="7066800" y="4138560"/>
                    <a:ext cx="58680" cy="5713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480">
                        <a:moveTo>
                          <a:pt x="0" y="0"/>
                        </a:moveTo>
                        <a:cubicBezTo>
                          <a:pt x="18" y="55"/>
                          <a:pt x="44" y="104"/>
                          <a:pt x="80" y="152"/>
                        </a:cubicBezTo>
                        <a:cubicBezTo>
                          <a:pt x="97" y="203"/>
                          <a:pt x="67" y="244"/>
                          <a:pt x="32" y="280"/>
                        </a:cubicBezTo>
                        <a:cubicBezTo>
                          <a:pt x="16" y="325"/>
                          <a:pt x="5" y="334"/>
                          <a:pt x="24" y="384"/>
                        </a:cubicBezTo>
                        <a:cubicBezTo>
                          <a:pt x="36" y="417"/>
                          <a:pt x="71" y="446"/>
                          <a:pt x="88" y="48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1" name=""/>
                <p:cNvSpPr/>
                <p:nvPr/>
              </p:nvSpPr>
              <p:spPr>
                <a:xfrm>
                  <a:off x="7161120" y="4367160"/>
                  <a:ext cx="304560" cy="16524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08080"/>
                    </a:gs>
                    <a:gs pos="100000">
                      <a:srgbClr val="ffffff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233280" y="3938040"/>
                  <a:ext cx="630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ce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7103160" y="3933360"/>
                  <a:ext cx="519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te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4" name=""/>
              <p:cNvSpPr/>
              <p:nvPr/>
            </p:nvSpPr>
            <p:spPr>
              <a:xfrm rot="5400000">
                <a:off x="4799880" y="3962160"/>
                <a:ext cx="533520" cy="228600"/>
              </a:xfrm>
              <a:custGeom>
                <a:avLst/>
                <a:gdLst>
                  <a:gd name="textAreaLeft" fmla="*/ 83160 w 533520"/>
                  <a:gd name="textAreaRight" fmla="*/ 466920 w 533520"/>
                  <a:gd name="textAreaTop" fmla="*/ 57240 h 228600"/>
                  <a:gd name="textAreaBottom" fmla="*/ 17172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5" name=""/>
          <p:cNvGrpSpPr/>
          <p:nvPr/>
        </p:nvGrpSpPr>
        <p:grpSpPr>
          <a:xfrm>
            <a:off x="3558960" y="1542600"/>
            <a:ext cx="5203800" cy="3638880"/>
            <a:chOff x="3558960" y="1542600"/>
            <a:chExt cx="5203800" cy="3638880"/>
          </a:xfrm>
        </p:grpSpPr>
        <p:sp>
          <p:nvSpPr>
            <p:cNvPr id="786" name=""/>
            <p:cNvSpPr/>
            <p:nvPr/>
          </p:nvSpPr>
          <p:spPr>
            <a:xfrm>
              <a:off x="3558960" y="1542600"/>
              <a:ext cx="431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Inversione benigna nel 28% dei genitori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rot="16200000">
              <a:off x="4686120" y="952200"/>
              <a:ext cx="1600200" cy="3504960"/>
            </a:xfrm>
            <a:custGeom>
              <a:avLst/>
              <a:gdLst>
                <a:gd name="textAreaLeft" fmla="*/ 0 w 1600200"/>
                <a:gd name="textAreaRight" fmla="*/ 1122480 w 1600200"/>
                <a:gd name="textAreaTop" fmla="*/ 145800 h 3504960"/>
                <a:gd name="textAreaBottom" fmla="*/ 3359160 h 350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rot="5400000">
              <a:off x="8038800" y="4457520"/>
              <a:ext cx="1218960" cy="228600"/>
            </a:xfrm>
            <a:custGeom>
              <a:avLst/>
              <a:gdLst>
                <a:gd name="textAreaLeft" fmla="*/ 190440 w 1218960"/>
                <a:gd name="textAreaRight" fmla="*/ 1066680 w 1218960"/>
                <a:gd name="textAreaTop" fmla="*/ 57240 h 228600"/>
                <a:gd name="textAreaBottom" fmla="*/ 1717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89" name="" descr=""/>
          <p:cNvPicPr/>
          <p:nvPr/>
        </p:nvPicPr>
        <p:blipFill>
          <a:blip r:embed="rId4"/>
          <a:stretch/>
        </p:blipFill>
        <p:spPr>
          <a:xfrm>
            <a:off x="990720" y="6173640"/>
            <a:ext cx="7937280" cy="912960"/>
          </a:xfrm>
          <a:prstGeom prst="rect">
            <a:avLst/>
          </a:prstGeom>
          <a:ln w="0">
            <a:noFill/>
          </a:ln>
        </p:spPr>
      </p:pic>
      <p:pic>
        <p:nvPicPr>
          <p:cNvPr id="790" name="" descr=""/>
          <p:cNvPicPr/>
          <p:nvPr/>
        </p:nvPicPr>
        <p:blipFill>
          <a:blip r:embed="rId5"/>
          <a:stretch/>
        </p:blipFill>
        <p:spPr>
          <a:xfrm>
            <a:off x="5943600" y="7051680"/>
            <a:ext cx="2997360" cy="304920"/>
          </a:xfrm>
          <a:prstGeom prst="rect">
            <a:avLst/>
          </a:prstGeom>
          <a:ln w="0">
            <a:noFill/>
          </a:ln>
        </p:spPr>
      </p:pic>
      <p:grpSp>
        <p:nvGrpSpPr>
          <p:cNvPr id="791" name=""/>
          <p:cNvGrpSpPr/>
          <p:nvPr/>
        </p:nvGrpSpPr>
        <p:grpSpPr>
          <a:xfrm>
            <a:off x="720720" y="844560"/>
            <a:ext cx="1976040" cy="2005560"/>
            <a:chOff x="720720" y="844560"/>
            <a:chExt cx="1976040" cy="2005560"/>
          </a:xfrm>
        </p:grpSpPr>
        <p:pic>
          <p:nvPicPr>
            <p:cNvPr id="792" name="" descr=""/>
            <p:cNvPicPr/>
            <p:nvPr/>
          </p:nvPicPr>
          <p:blipFill>
            <a:blip r:embed="rId6"/>
            <a:stretch/>
          </p:blipFill>
          <p:spPr>
            <a:xfrm>
              <a:off x="762120" y="844560"/>
              <a:ext cx="714240" cy="17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3" name=""/>
            <p:cNvSpPr/>
            <p:nvPr/>
          </p:nvSpPr>
          <p:spPr>
            <a:xfrm>
              <a:off x="1295280" y="1752480"/>
              <a:ext cx="381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20720" y="2481840"/>
              <a:ext cx="96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rom.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590840" y="1545120"/>
              <a:ext cx="110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7q11.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6" name=""/>
          <p:cNvGrpSpPr/>
          <p:nvPr/>
        </p:nvGrpSpPr>
        <p:grpSpPr>
          <a:xfrm>
            <a:off x="3733920" y="2324880"/>
            <a:ext cx="2959920" cy="1180080"/>
            <a:chOff x="3733920" y="2324880"/>
            <a:chExt cx="2959920" cy="1180080"/>
          </a:xfrm>
        </p:grpSpPr>
        <p:grpSp>
          <p:nvGrpSpPr>
            <p:cNvPr id="797" name=""/>
            <p:cNvGrpSpPr/>
            <p:nvPr/>
          </p:nvGrpSpPr>
          <p:grpSpPr>
            <a:xfrm>
              <a:off x="3733920" y="2666520"/>
              <a:ext cx="2057400" cy="838440"/>
              <a:chOff x="3733920" y="2666520"/>
              <a:chExt cx="2057400" cy="838440"/>
            </a:xfrm>
          </p:grpSpPr>
          <p:sp>
            <p:nvSpPr>
              <p:cNvPr id="798" name=""/>
              <p:cNvSpPr/>
              <p:nvPr/>
            </p:nvSpPr>
            <p:spPr>
              <a:xfrm>
                <a:off x="4423680" y="2711160"/>
                <a:ext cx="674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L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16200000">
                <a:off x="4343400" y="2057040"/>
                <a:ext cx="838440" cy="2057400"/>
              </a:xfrm>
              <a:custGeom>
                <a:avLst/>
                <a:gdLst>
                  <a:gd name="textAreaLeft" fmla="*/ 0 w 838440"/>
                  <a:gd name="textAreaRight" fmla="*/ 588240 w 838440"/>
                  <a:gd name="textAreaTop" fmla="*/ 85680 h 2057400"/>
                  <a:gd name="textAreaBottom" fmla="*/ 1971720 h 2057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900"/>
                      <a:pt x="21600" y="1800"/>
                    </a:cubicBezTo>
                    <a:lnTo>
                      <a:pt x="21600" y="19800"/>
                    </a:lnTo>
                    <a:cubicBezTo>
                      <a:pt x="21600" y="20700"/>
                      <a:pt x="10800" y="21600"/>
                      <a:pt x="0" y="21600"/>
                    </a:cubicBezTo>
                  </a:path>
                </a:pathLst>
              </a:cu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0" name=""/>
            <p:cNvSpPr/>
            <p:nvPr/>
          </p:nvSpPr>
          <p:spPr>
            <a:xfrm>
              <a:off x="4237920" y="2324880"/>
              <a:ext cx="245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Delezione di 1600K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7154-07A1-4B2C-9417-397FEDE4C3D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DGS/VCFS</a:t>
            </a:r>
            <a:endParaRPr b="1" lang="en-US" sz="2800" spc="-1" strike="noStrike">
              <a:solidFill>
                <a:srgbClr val="ff0b00"/>
              </a:solidFill>
              <a:latin typeface="Comic Sans MS"/>
            </a:endParaRPr>
          </a:p>
        </p:txBody>
      </p:sp>
      <p:sp>
        <p:nvSpPr>
          <p:cNvPr id="802" name=""/>
          <p:cNvSpPr/>
          <p:nvPr/>
        </p:nvSpPr>
        <p:spPr>
          <a:xfrm>
            <a:off x="4419720" y="685800"/>
            <a:ext cx="2819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3" name="" descr=""/>
          <p:cNvPicPr/>
          <p:nvPr/>
        </p:nvPicPr>
        <p:blipFill>
          <a:blip r:embed="rId1"/>
          <a:stretch/>
        </p:blipFill>
        <p:spPr>
          <a:xfrm>
            <a:off x="2589120" y="609480"/>
            <a:ext cx="412920" cy="658800"/>
          </a:xfrm>
          <a:prstGeom prst="rect">
            <a:avLst/>
          </a:prstGeom>
          <a:ln w="0">
            <a:noFill/>
          </a:ln>
        </p:spPr>
      </p:pic>
      <p:grpSp>
        <p:nvGrpSpPr>
          <p:cNvPr id="804" name=""/>
          <p:cNvGrpSpPr/>
          <p:nvPr/>
        </p:nvGrpSpPr>
        <p:grpSpPr>
          <a:xfrm>
            <a:off x="2949480" y="783360"/>
            <a:ext cx="1480320" cy="368280"/>
            <a:chOff x="2949480" y="783360"/>
            <a:chExt cx="1480320" cy="368280"/>
          </a:xfrm>
        </p:grpSpPr>
        <p:sp>
          <p:nvSpPr>
            <p:cNvPr id="805" name=""/>
            <p:cNvSpPr/>
            <p:nvPr/>
          </p:nvSpPr>
          <p:spPr>
            <a:xfrm>
              <a:off x="2949480" y="990720"/>
              <a:ext cx="381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264480" y="783360"/>
              <a:ext cx="116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22q11.2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1676520" y="1523880"/>
            <a:ext cx="3809880" cy="2895840"/>
            <a:chOff x="1676520" y="1523880"/>
            <a:chExt cx="3809880" cy="2895840"/>
          </a:xfrm>
        </p:grpSpPr>
        <p:grpSp>
          <p:nvGrpSpPr>
            <p:cNvPr id="808" name=""/>
            <p:cNvGrpSpPr/>
            <p:nvPr/>
          </p:nvGrpSpPr>
          <p:grpSpPr>
            <a:xfrm>
              <a:off x="1676520" y="1752480"/>
              <a:ext cx="469080" cy="2168280"/>
              <a:chOff x="1676520" y="1752480"/>
              <a:chExt cx="469080" cy="2168280"/>
            </a:xfrm>
          </p:grpSpPr>
          <p:sp>
            <p:nvSpPr>
              <p:cNvPr id="809" name=""/>
              <p:cNvSpPr/>
              <p:nvPr/>
            </p:nvSpPr>
            <p:spPr>
              <a:xfrm>
                <a:off x="1676520" y="3771000"/>
                <a:ext cx="464400" cy="14976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993366"/>
                  </a:gs>
                  <a:gs pos="50000">
                    <a:srgbClr val="ffffff"/>
                  </a:gs>
                  <a:gs pos="100000">
                    <a:srgbClr val="99336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1676520" y="3665880"/>
                <a:ext cx="464400" cy="1494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000080"/>
                  </a:gs>
                  <a:gs pos="50000">
                    <a:srgbClr val="ffffff"/>
                  </a:gs>
                  <a:gs pos="100000">
                    <a:srgbClr val="00008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1676520" y="3553200"/>
                <a:ext cx="464400" cy="1494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993366"/>
                  </a:gs>
                  <a:gs pos="50000">
                    <a:srgbClr val="ffffff"/>
                  </a:gs>
                  <a:gs pos="100000">
                    <a:srgbClr val="99336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1676520" y="3448080"/>
                <a:ext cx="464400" cy="1494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000080"/>
                  </a:gs>
                  <a:gs pos="50000">
                    <a:srgbClr val="ffffff"/>
                  </a:gs>
                  <a:gs pos="100000">
                    <a:srgbClr val="00008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676520" y="3152160"/>
                <a:ext cx="464400" cy="35856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993366"/>
                  </a:gs>
                  <a:gs pos="50000">
                    <a:srgbClr val="ffffff"/>
                  </a:gs>
                  <a:gs pos="100000">
                    <a:srgbClr val="99336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676520" y="2989800"/>
                <a:ext cx="464400" cy="25272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000080"/>
                  </a:gs>
                  <a:gs pos="50000">
                    <a:srgbClr val="ffffff"/>
                  </a:gs>
                  <a:gs pos="100000">
                    <a:srgbClr val="00008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1676520" y="2812680"/>
                <a:ext cx="464400" cy="25272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000080"/>
                  </a:gs>
                  <a:gs pos="50000">
                    <a:srgbClr val="ffffff"/>
                  </a:gs>
                  <a:gs pos="100000">
                    <a:srgbClr val="00008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676520" y="2727360"/>
                <a:ext cx="464400" cy="1494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993366"/>
                  </a:gs>
                  <a:gs pos="50000">
                    <a:srgbClr val="ffffff"/>
                  </a:gs>
                  <a:gs pos="100000">
                    <a:srgbClr val="99336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1676520" y="2622240"/>
                <a:ext cx="464400" cy="1494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000080"/>
                  </a:gs>
                  <a:gs pos="50000">
                    <a:srgbClr val="ffffff"/>
                  </a:gs>
                  <a:gs pos="100000">
                    <a:srgbClr val="00008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676520" y="2444760"/>
                <a:ext cx="464400" cy="25272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70408"/>
                  </a:gs>
                  <a:gs pos="50000">
                    <a:srgbClr val="ffffff"/>
                  </a:gs>
                  <a:gs pos="100000">
                    <a:srgbClr val="870408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1753920" y="2284200"/>
                <a:ext cx="309600" cy="17712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1681200" y="1752480"/>
                <a:ext cx="464400" cy="17712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993366"/>
                  </a:gs>
                  <a:gs pos="50000">
                    <a:srgbClr val="ffffff"/>
                  </a:gs>
                  <a:gs pos="100000">
                    <a:srgbClr val="99336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1681200" y="2075400"/>
                <a:ext cx="464400" cy="253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993366"/>
                  </a:gs>
                  <a:gs pos="50000">
                    <a:srgbClr val="ffffff"/>
                  </a:gs>
                  <a:gs pos="100000">
                    <a:srgbClr val="99336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1738800" y="1981080"/>
                <a:ext cx="3484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1738800" y="2051280"/>
                <a:ext cx="348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4" name=""/>
            <p:cNvSpPr/>
            <p:nvPr/>
          </p:nvSpPr>
          <p:spPr>
            <a:xfrm flipV="1">
              <a:off x="2133720" y="1905120"/>
              <a:ext cx="236196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133720" y="2743200"/>
              <a:ext cx="236196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105520" y="1523880"/>
              <a:ext cx="0" cy="289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029200" y="1828800"/>
              <a:ext cx="457200" cy="2523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029200" y="2567160"/>
              <a:ext cx="457200" cy="2523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960640"/>
              <a:ext cx="457200" cy="2523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029200" y="3405240"/>
              <a:ext cx="457200" cy="2523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029200" y="3786120"/>
              <a:ext cx="457200" cy="25236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5486400" y="1676520"/>
            <a:ext cx="3340080" cy="1981080"/>
            <a:chOff x="5486400" y="1676520"/>
            <a:chExt cx="3340080" cy="1981080"/>
          </a:xfrm>
        </p:grpSpPr>
        <p:sp>
          <p:nvSpPr>
            <p:cNvPr id="833" name=""/>
            <p:cNvSpPr/>
            <p:nvPr/>
          </p:nvSpPr>
          <p:spPr>
            <a:xfrm>
              <a:off x="6553080" y="1676520"/>
              <a:ext cx="304920" cy="1981080"/>
            </a:xfrm>
            <a:custGeom>
              <a:avLst/>
              <a:gdLst>
                <a:gd name="textAreaLeft" fmla="*/ 0 w 304920"/>
                <a:gd name="textAreaRight" fmla="*/ 213840 w 304920"/>
                <a:gd name="textAreaTop" fmla="*/ 82440 h 1981080"/>
                <a:gd name="textAreaBottom" fmla="*/ 1898640 h 19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897600" y="2239560"/>
              <a:ext cx="192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3 Mb (85-90%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486400" y="1676520"/>
              <a:ext cx="304920" cy="1066680"/>
            </a:xfrm>
            <a:custGeom>
              <a:avLst/>
              <a:gdLst>
                <a:gd name="textAreaLeft" fmla="*/ 0 w 304920"/>
                <a:gd name="textAreaRight" fmla="*/ 213840 w 304920"/>
                <a:gd name="textAreaTop" fmla="*/ 44280 h 1066680"/>
                <a:gd name="textAreaBottom" fmla="*/ 102240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898240" y="1831320"/>
              <a:ext cx="867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1.5M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(8%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86400" y="1676520"/>
              <a:ext cx="304920" cy="1600200"/>
            </a:xfrm>
            <a:custGeom>
              <a:avLst/>
              <a:gdLst>
                <a:gd name="textAreaLeft" fmla="*/ 0 w 304920"/>
                <a:gd name="textAreaRight" fmla="*/ 213840 w 304920"/>
                <a:gd name="textAreaTop" fmla="*/ 66600 h 1600200"/>
                <a:gd name="textAreaBottom" fmla="*/ 15336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877000" y="2666160"/>
              <a:ext cx="67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2M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(2%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9" name=""/>
          <p:cNvGrpSpPr/>
          <p:nvPr/>
        </p:nvGrpSpPr>
        <p:grpSpPr>
          <a:xfrm>
            <a:off x="123840" y="4214520"/>
            <a:ext cx="9263160" cy="2134800"/>
            <a:chOff x="123840" y="4214520"/>
            <a:chExt cx="9263160" cy="2134800"/>
          </a:xfrm>
        </p:grpSpPr>
        <p:sp>
          <p:nvSpPr>
            <p:cNvPr id="840" name=""/>
            <p:cNvSpPr/>
            <p:nvPr/>
          </p:nvSpPr>
          <p:spPr>
            <a:xfrm>
              <a:off x="5867280" y="5316120"/>
              <a:ext cx="457200" cy="215640"/>
            </a:xfrm>
            <a:prstGeom prst="leftArrow">
              <a:avLst>
                <a:gd name="adj1" fmla="val 50000"/>
                <a:gd name="adj2" fmla="val 53005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324480" y="5341680"/>
              <a:ext cx="685800" cy="1519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efefe"/>
                </a:gs>
                <a:gs pos="50000">
                  <a:srgbClr val="000000"/>
                </a:gs>
                <a:gs pos="100000">
                  <a:srgbClr val="fefefe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2" name=""/>
            <p:cNvGrpSpPr/>
            <p:nvPr/>
          </p:nvGrpSpPr>
          <p:grpSpPr>
            <a:xfrm>
              <a:off x="6934320" y="5265360"/>
              <a:ext cx="380880" cy="299880"/>
              <a:chOff x="6934320" y="5265360"/>
              <a:chExt cx="380880" cy="299880"/>
            </a:xfrm>
          </p:grpSpPr>
          <p:sp>
            <p:nvSpPr>
              <p:cNvPr id="843" name=""/>
              <p:cNvSpPr/>
              <p:nvPr/>
            </p:nvSpPr>
            <p:spPr>
              <a:xfrm>
                <a:off x="6934320" y="5265360"/>
                <a:ext cx="380880" cy="29988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9900"/>
                  </a:gs>
                  <a:gs pos="50000">
                    <a:srgbClr val="ffffff"/>
                  </a:gs>
                  <a:gs pos="100000">
                    <a:srgbClr val="ff99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6972120" y="5430240"/>
                <a:ext cx="22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5" name=""/>
            <p:cNvGrpSpPr/>
            <p:nvPr/>
          </p:nvGrpSpPr>
          <p:grpSpPr>
            <a:xfrm>
              <a:off x="1257480" y="4570200"/>
              <a:ext cx="7530840" cy="299520"/>
              <a:chOff x="1257480" y="4570200"/>
              <a:chExt cx="7530840" cy="299520"/>
            </a:xfrm>
          </p:grpSpPr>
          <p:sp>
            <p:nvSpPr>
              <p:cNvPr id="846" name=""/>
              <p:cNvSpPr/>
              <p:nvPr/>
            </p:nvSpPr>
            <p:spPr>
              <a:xfrm>
                <a:off x="1257480" y="4620600"/>
                <a:ext cx="457200" cy="215640"/>
              </a:xfrm>
              <a:prstGeom prst="leftArrow">
                <a:avLst>
                  <a:gd name="adj1" fmla="val 50000"/>
                  <a:gd name="adj2" fmla="val 53005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00000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1714680" y="4645800"/>
                <a:ext cx="685800" cy="15228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efefe"/>
                  </a:gs>
                  <a:gs pos="50000">
                    <a:srgbClr val="000000"/>
                  </a:gs>
                  <a:gs pos="100000">
                    <a:srgbClr val="fefefe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2324160" y="4570200"/>
                <a:ext cx="380880" cy="2995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9900"/>
                  </a:gs>
                  <a:gs pos="50000">
                    <a:srgbClr val="ffffff"/>
                  </a:gs>
                  <a:gs pos="100000">
                    <a:srgbClr val="ff99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2629080" y="4570200"/>
                <a:ext cx="609480" cy="2995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003300"/>
                  </a:gs>
                  <a:gs pos="50000">
                    <a:srgbClr val="ffffff"/>
                  </a:gs>
                  <a:gs pos="100000">
                    <a:srgbClr val="0033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162240" y="4570200"/>
                <a:ext cx="381240" cy="2995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467160" y="4570200"/>
                <a:ext cx="609480" cy="2995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003300"/>
                  </a:gs>
                  <a:gs pos="50000">
                    <a:srgbClr val="ffffff"/>
                  </a:gs>
                  <a:gs pos="100000">
                    <a:srgbClr val="0033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4000680" y="4570200"/>
                <a:ext cx="609480" cy="2995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4533840" y="4570200"/>
                <a:ext cx="609840" cy="2995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99cc"/>
                  </a:gs>
                  <a:gs pos="50000">
                    <a:srgbClr val="ffffff"/>
                  </a:gs>
                  <a:gs pos="100000">
                    <a:srgbClr val="ff99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5067360" y="4570200"/>
                <a:ext cx="609480" cy="2995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5600880" y="4570200"/>
                <a:ext cx="609480" cy="2995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003300"/>
                  </a:gs>
                  <a:gs pos="50000">
                    <a:srgbClr val="ffffff"/>
                  </a:gs>
                  <a:gs pos="100000">
                    <a:srgbClr val="0033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2362320" y="473472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2666880" y="474768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3200400" y="473472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3505320" y="474768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4038480" y="474768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4572000" y="474768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6134040" y="4570200"/>
                <a:ext cx="609840" cy="2995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ff"/>
                  </a:gs>
                  <a:gs pos="100000">
                    <a:srgbClr val="ff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6692760" y="4645800"/>
                <a:ext cx="685800" cy="15228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efefe"/>
                  </a:gs>
                  <a:gs pos="50000">
                    <a:srgbClr val="000000"/>
                  </a:gs>
                  <a:gs pos="100000">
                    <a:srgbClr val="fefefe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302600" y="4570200"/>
                <a:ext cx="380880" cy="2995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c0c0c0"/>
                  </a:gs>
                  <a:gs pos="5000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7607160" y="4645800"/>
                <a:ext cx="685800" cy="15228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efefe"/>
                  </a:gs>
                  <a:gs pos="50000">
                    <a:srgbClr val="000000"/>
                  </a:gs>
                  <a:gs pos="100000">
                    <a:srgbClr val="fefefe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8267760" y="4620600"/>
                <a:ext cx="520560" cy="228240"/>
              </a:xfrm>
              <a:prstGeom prst="rightArrow">
                <a:avLst>
                  <a:gd name="adj1" fmla="val 50000"/>
                  <a:gd name="adj2" fmla="val 57019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00000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5079960" y="474768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5600880" y="474768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6134040" y="474768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7353360" y="474768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1" name=""/>
            <p:cNvSpPr/>
            <p:nvPr/>
          </p:nvSpPr>
          <p:spPr>
            <a:xfrm>
              <a:off x="828360" y="4483080"/>
              <a:ext cx="3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2" name=""/>
            <p:cNvGrpSpPr/>
            <p:nvPr/>
          </p:nvGrpSpPr>
          <p:grpSpPr>
            <a:xfrm>
              <a:off x="849600" y="5143320"/>
              <a:ext cx="4484160" cy="459720"/>
              <a:chOff x="849600" y="5143320"/>
              <a:chExt cx="4484160" cy="459720"/>
            </a:xfrm>
          </p:grpSpPr>
          <p:sp>
            <p:nvSpPr>
              <p:cNvPr id="873" name=""/>
              <p:cNvSpPr/>
              <p:nvPr/>
            </p:nvSpPr>
            <p:spPr>
              <a:xfrm>
                <a:off x="1447560" y="5306400"/>
                <a:ext cx="457200" cy="215640"/>
              </a:xfrm>
              <a:prstGeom prst="leftArrow">
                <a:avLst>
                  <a:gd name="adj1" fmla="val 50000"/>
                  <a:gd name="adj2" fmla="val 53005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00000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1904760" y="5331960"/>
                <a:ext cx="685800" cy="1519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efefe"/>
                  </a:gs>
                  <a:gs pos="50000">
                    <a:srgbClr val="000000"/>
                  </a:gs>
                  <a:gs pos="100000">
                    <a:srgbClr val="fefefe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2476080" y="5255640"/>
                <a:ext cx="609840" cy="2995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ff"/>
                  </a:gs>
                  <a:gs pos="100000">
                    <a:srgbClr val="ff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009600" y="5255640"/>
                <a:ext cx="609480" cy="2995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003300"/>
                  </a:gs>
                  <a:gs pos="50000">
                    <a:srgbClr val="ffffff"/>
                  </a:gs>
                  <a:gs pos="100000">
                    <a:srgbClr val="0033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2476080" y="543348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009600" y="543348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543120" y="5255640"/>
                <a:ext cx="380880" cy="2995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9900"/>
                  </a:gs>
                  <a:gs pos="50000">
                    <a:srgbClr val="ffffff"/>
                  </a:gs>
                  <a:gs pos="100000">
                    <a:srgbClr val="ff99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581280" y="542088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847680" y="5250960"/>
                <a:ext cx="381240" cy="2995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003300"/>
                  </a:gs>
                  <a:gs pos="50000">
                    <a:srgbClr val="ffffff"/>
                  </a:gs>
                  <a:gs pos="100000">
                    <a:srgbClr val="0033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873240" y="543348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4152600" y="5331960"/>
                <a:ext cx="685800" cy="1519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efefe"/>
                  </a:gs>
                  <a:gs pos="50000">
                    <a:srgbClr val="000000"/>
                  </a:gs>
                  <a:gs pos="100000">
                    <a:srgbClr val="fefefe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4812840" y="5306400"/>
                <a:ext cx="520920" cy="228240"/>
              </a:xfrm>
              <a:prstGeom prst="rightArrow">
                <a:avLst>
                  <a:gd name="adj1" fmla="val 50000"/>
                  <a:gd name="adj2" fmla="val 57058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00000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849600" y="514332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6" name=""/>
            <p:cNvSpPr/>
            <p:nvPr/>
          </p:nvSpPr>
          <p:spPr>
            <a:xfrm>
              <a:off x="7201080" y="5265360"/>
              <a:ext cx="609480" cy="2998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03300"/>
                </a:gs>
                <a:gs pos="50000">
                  <a:srgbClr val="ffffff"/>
                </a:gs>
                <a:gs pos="100000">
                  <a:srgbClr val="0033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201080" y="54306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772400" y="5341680"/>
              <a:ext cx="685800" cy="1519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efefe"/>
                </a:gs>
                <a:gs pos="50000">
                  <a:srgbClr val="000000"/>
                </a:gs>
                <a:gs pos="100000">
                  <a:srgbClr val="fefefe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8432640" y="5316120"/>
              <a:ext cx="520920" cy="228240"/>
            </a:xfrm>
            <a:prstGeom prst="rightArrow">
              <a:avLst>
                <a:gd name="adj1" fmla="val 50000"/>
                <a:gd name="adj2" fmla="val 57058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8914680" y="5127480"/>
              <a:ext cx="37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23840" y="4214520"/>
              <a:ext cx="66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C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295280" y="6068880"/>
              <a:ext cx="457200" cy="215280"/>
            </a:xfrm>
            <a:prstGeom prst="leftArrow">
              <a:avLst>
                <a:gd name="adj1" fmla="val 50000"/>
                <a:gd name="adj2" fmla="val 53094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752480" y="6094080"/>
              <a:ext cx="685800" cy="1522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efefe"/>
                </a:gs>
                <a:gs pos="50000">
                  <a:srgbClr val="000000"/>
                </a:gs>
                <a:gs pos="100000">
                  <a:srgbClr val="fefefe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4" name=""/>
            <p:cNvGrpSpPr/>
            <p:nvPr/>
          </p:nvGrpSpPr>
          <p:grpSpPr>
            <a:xfrm>
              <a:off x="2362320" y="6018120"/>
              <a:ext cx="609480" cy="299520"/>
              <a:chOff x="2362320" y="6018120"/>
              <a:chExt cx="609480" cy="299520"/>
            </a:xfrm>
          </p:grpSpPr>
          <p:sp>
            <p:nvSpPr>
              <p:cNvPr id="895" name=""/>
              <p:cNvSpPr/>
              <p:nvPr/>
            </p:nvSpPr>
            <p:spPr>
              <a:xfrm>
                <a:off x="2362320" y="6018120"/>
                <a:ext cx="609480" cy="2995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400120" y="619524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7" name=""/>
            <p:cNvGrpSpPr/>
            <p:nvPr/>
          </p:nvGrpSpPr>
          <p:grpSpPr>
            <a:xfrm>
              <a:off x="2895480" y="6018120"/>
              <a:ext cx="609480" cy="299520"/>
              <a:chOff x="2895480" y="6018120"/>
              <a:chExt cx="609480" cy="299520"/>
            </a:xfrm>
          </p:grpSpPr>
          <p:sp>
            <p:nvSpPr>
              <p:cNvPr id="898" name=""/>
              <p:cNvSpPr/>
              <p:nvPr/>
            </p:nvSpPr>
            <p:spPr>
              <a:xfrm>
                <a:off x="2895480" y="6018120"/>
                <a:ext cx="609480" cy="2995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003300"/>
                  </a:gs>
                  <a:gs pos="50000">
                    <a:srgbClr val="ffffff"/>
                  </a:gs>
                  <a:gs pos="100000">
                    <a:srgbClr val="0033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2933640" y="619524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0" name=""/>
            <p:cNvGrpSpPr/>
            <p:nvPr/>
          </p:nvGrpSpPr>
          <p:grpSpPr>
            <a:xfrm>
              <a:off x="3416400" y="6018120"/>
              <a:ext cx="609480" cy="299520"/>
              <a:chOff x="3416400" y="6018120"/>
              <a:chExt cx="609480" cy="299520"/>
            </a:xfrm>
          </p:grpSpPr>
          <p:sp>
            <p:nvSpPr>
              <p:cNvPr id="901" name=""/>
              <p:cNvSpPr/>
              <p:nvPr/>
            </p:nvSpPr>
            <p:spPr>
              <a:xfrm>
                <a:off x="3416400" y="6018120"/>
                <a:ext cx="609480" cy="2995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99cc"/>
                  </a:gs>
                  <a:gs pos="50000">
                    <a:srgbClr val="ffffff"/>
                  </a:gs>
                  <a:gs pos="100000">
                    <a:srgbClr val="ff99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454560" y="619524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3949560" y="6005160"/>
              <a:ext cx="609480" cy="299880"/>
              <a:chOff x="3949560" y="6005160"/>
              <a:chExt cx="609480" cy="299880"/>
            </a:xfrm>
          </p:grpSpPr>
          <p:sp>
            <p:nvSpPr>
              <p:cNvPr id="904" name=""/>
              <p:cNvSpPr/>
              <p:nvPr/>
            </p:nvSpPr>
            <p:spPr>
              <a:xfrm>
                <a:off x="3949560" y="6005160"/>
                <a:ext cx="609480" cy="29988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3962160" y="618264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6" name=""/>
            <p:cNvGrpSpPr/>
            <p:nvPr/>
          </p:nvGrpSpPr>
          <p:grpSpPr>
            <a:xfrm>
              <a:off x="4483080" y="6005160"/>
              <a:ext cx="609480" cy="299880"/>
              <a:chOff x="4483080" y="6005160"/>
              <a:chExt cx="609480" cy="299880"/>
            </a:xfrm>
          </p:grpSpPr>
          <p:sp>
            <p:nvSpPr>
              <p:cNvPr id="907" name=""/>
              <p:cNvSpPr/>
              <p:nvPr/>
            </p:nvSpPr>
            <p:spPr>
              <a:xfrm>
                <a:off x="4483080" y="6005160"/>
                <a:ext cx="609480" cy="29988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003300"/>
                  </a:gs>
                  <a:gs pos="50000">
                    <a:srgbClr val="ffffff"/>
                  </a:gs>
                  <a:gs pos="100000">
                    <a:srgbClr val="0033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483080" y="618264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9" name=""/>
            <p:cNvGrpSpPr/>
            <p:nvPr/>
          </p:nvGrpSpPr>
          <p:grpSpPr>
            <a:xfrm>
              <a:off x="5003640" y="6005160"/>
              <a:ext cx="380880" cy="299880"/>
              <a:chOff x="5003640" y="6005160"/>
              <a:chExt cx="380880" cy="299880"/>
            </a:xfrm>
          </p:grpSpPr>
          <p:sp>
            <p:nvSpPr>
              <p:cNvPr id="910" name=""/>
              <p:cNvSpPr/>
              <p:nvPr/>
            </p:nvSpPr>
            <p:spPr>
              <a:xfrm>
                <a:off x="5003640" y="6005160"/>
                <a:ext cx="380880" cy="29988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041800" y="617004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2" name=""/>
            <p:cNvSpPr/>
            <p:nvPr/>
          </p:nvSpPr>
          <p:spPr>
            <a:xfrm>
              <a:off x="5308560" y="6005160"/>
              <a:ext cx="380880" cy="2998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346720" y="617040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638680" y="6094080"/>
              <a:ext cx="685800" cy="1522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efefe"/>
                </a:gs>
                <a:gs pos="50000">
                  <a:srgbClr val="000000"/>
                </a:gs>
                <a:gs pos="100000">
                  <a:srgbClr val="fefefe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5" name=""/>
            <p:cNvGrpSpPr/>
            <p:nvPr/>
          </p:nvGrpSpPr>
          <p:grpSpPr>
            <a:xfrm>
              <a:off x="6248520" y="6005160"/>
              <a:ext cx="609480" cy="299880"/>
              <a:chOff x="6248520" y="6005160"/>
              <a:chExt cx="609480" cy="299880"/>
            </a:xfrm>
          </p:grpSpPr>
          <p:sp>
            <p:nvSpPr>
              <p:cNvPr id="916" name=""/>
              <p:cNvSpPr/>
              <p:nvPr/>
            </p:nvSpPr>
            <p:spPr>
              <a:xfrm>
                <a:off x="6248520" y="6005160"/>
                <a:ext cx="609480" cy="29988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003300"/>
                  </a:gs>
                  <a:gs pos="50000">
                    <a:srgbClr val="ffffff"/>
                  </a:gs>
                  <a:gs pos="100000">
                    <a:srgbClr val="0033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6286680" y="618264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8" name=""/>
            <p:cNvSpPr/>
            <p:nvPr/>
          </p:nvSpPr>
          <p:spPr>
            <a:xfrm>
              <a:off x="7480440" y="6068880"/>
              <a:ext cx="520560" cy="228240"/>
            </a:xfrm>
            <a:prstGeom prst="rightArrow">
              <a:avLst>
                <a:gd name="adj1" fmla="val 50000"/>
                <a:gd name="adj2" fmla="val 57019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00000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819840" y="6094080"/>
              <a:ext cx="685800" cy="1522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efefe"/>
                </a:gs>
                <a:gs pos="50000">
                  <a:srgbClr val="000000"/>
                </a:gs>
                <a:gs pos="100000">
                  <a:srgbClr val="fefefe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21520" y="588960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106480" y="5884200"/>
              <a:ext cx="55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T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22" name=""/>
            <p:cNvCxnSpPr>
              <a:stCxn id="866" idx="0"/>
              <a:endCxn id="885" idx="0"/>
            </p:cNvCxnSpPr>
            <p:nvPr/>
          </p:nvCxnSpPr>
          <p:spPr>
            <a:xfrm flipH="1">
              <a:off x="1042200" y="4735440"/>
              <a:ext cx="7746120" cy="379440"/>
            </a:xfrm>
            <a:prstGeom prst="bentConnector4">
              <a:avLst>
                <a:gd name="adj1" fmla="val -2951"/>
                <a:gd name="adj2" fmla="val 64767"/>
              </a:avLst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923" name=""/>
            <p:cNvSpPr/>
            <p:nvPr/>
          </p:nvSpPr>
          <p:spPr>
            <a:xfrm>
              <a:off x="5308560" y="5416200"/>
              <a:ext cx="55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24" name=""/>
            <p:cNvCxnSpPr/>
            <p:nvPr/>
          </p:nvCxnSpPr>
          <p:spPr>
            <a:xfrm flipH="1">
              <a:off x="1194840" y="5557320"/>
              <a:ext cx="7746120" cy="379800"/>
            </a:xfrm>
            <a:prstGeom prst="bentConnector4">
              <a:avLst>
                <a:gd name="adj1" fmla="val -5763"/>
                <a:gd name="adj2" fmla="val 64800"/>
              </a:avLst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925" name=""/>
          <p:cNvSpPr/>
          <p:nvPr/>
        </p:nvSpPr>
        <p:spPr>
          <a:xfrm>
            <a:off x="1721880" y="6520680"/>
            <a:ext cx="693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.H.Shaikh et al: Hum.Mol.Genet.9(4) 489-501 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.H.Shaikh &amp; B.S.Emanuel:Nat.Rev.Genet.2(10) 791-800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282400" y="121032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rom.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A926-D001-44C7-A960-115017C688D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fe2c02"/>
                </a:solidFill>
                <a:latin typeface="Comic Sans MS"/>
              </a:rPr>
              <a:t>RICERCANDO UN GENE NELLE BANCHE GENOMICHE</a:t>
            </a:r>
            <a:endParaRPr b="1" lang="en-US" sz="1900" spc="-1" strike="noStrike">
              <a:solidFill>
                <a:srgbClr val="ff0b00"/>
              </a:solidFill>
              <a:latin typeface="Comic Sans MS"/>
            </a:endParaRPr>
          </a:p>
        </p:txBody>
      </p:sp>
      <p:sp>
        <p:nvSpPr>
          <p:cNvPr id="928" name=""/>
          <p:cNvSpPr/>
          <p:nvPr/>
        </p:nvSpPr>
        <p:spPr>
          <a:xfrm>
            <a:off x="3571560" y="3311280"/>
            <a:ext cx="25750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creening di libre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560160" y="4773240"/>
            <a:ext cx="792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 puo’ cercare anche il clone genomico che contiene un dato 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84040" y="2130840"/>
            <a:ext cx="932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 trovare un clone di interesse e’ necessario testare la libreria con una data sequ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4343400" y="2705040"/>
            <a:ext cx="990720" cy="457200"/>
          </a:xfrm>
          <a:prstGeom prst="downArrow">
            <a:avLst>
              <a:gd name="adj1" fmla="val 50000"/>
              <a:gd name="adj2" fmla="val 58333"/>
            </a:avLst>
          </a:prstGeom>
          <a:solidFill>
            <a:srgbClr val="ffff00">
              <a:alpha val="40000"/>
            </a:srgbClr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274040" y="5470200"/>
            <a:ext cx="749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 puo’ cercare anche il clone genomico che contiene un g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2280600" y="6232320"/>
            <a:ext cx="69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 puo’ cercare il numero di copie di un dato gene (o S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6155-2347-4DB0-8658-E9E5826D322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/>
          <p:nvPr/>
        </p:nvSpPr>
        <p:spPr>
          <a:xfrm>
            <a:off x="227160" y="7213680"/>
            <a:ext cx="951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-360" y="1218960"/>
            <a:ext cx="4745160" cy="4064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900" spc="-1" strike="noStrike">
                <a:solidFill>
                  <a:srgbClr val="fe2c02"/>
                </a:solidFill>
                <a:latin typeface="Comic Sans MS"/>
              </a:rPr>
              <a:t>Esempio di screening I</a:t>
            </a:r>
            <a:endParaRPr b="1" lang="en-US" sz="1900" spc="-1" strike="noStrike">
              <a:solidFill>
                <a:srgbClr val="ff0b00"/>
              </a:solidFill>
              <a:latin typeface="Comic Sans MS"/>
            </a:endParaRPr>
          </a:p>
        </p:txBody>
      </p:sp>
      <p:grpSp>
        <p:nvGrpSpPr>
          <p:cNvPr id="936" name=""/>
          <p:cNvGrpSpPr/>
          <p:nvPr/>
        </p:nvGrpSpPr>
        <p:grpSpPr>
          <a:xfrm>
            <a:off x="533520" y="1828800"/>
            <a:ext cx="3733560" cy="1143000"/>
            <a:chOff x="533520" y="1828800"/>
            <a:chExt cx="3733560" cy="1143000"/>
          </a:xfrm>
        </p:grpSpPr>
        <p:sp>
          <p:nvSpPr>
            <p:cNvPr id="937" name=""/>
            <p:cNvSpPr/>
            <p:nvPr/>
          </p:nvSpPr>
          <p:spPr>
            <a:xfrm>
              <a:off x="533520" y="1828800"/>
              <a:ext cx="380880" cy="1143000"/>
            </a:xfrm>
            <a:prstGeom prst="can">
              <a:avLst>
                <a:gd name="adj" fmla="val 25000"/>
              </a:avLst>
            </a:prstGeom>
            <a:solidFill>
              <a:srgbClr val="ff66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33520" y="2432160"/>
              <a:ext cx="380880" cy="533160"/>
            </a:xfrm>
            <a:prstGeom prst="can">
              <a:avLst>
                <a:gd name="adj" fmla="val 46430"/>
              </a:avLst>
            </a:prstGeom>
            <a:solidFill>
              <a:srgbClr val="ffffff">
                <a:alpha val="59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066680" y="2286000"/>
              <a:ext cx="1524240" cy="457200"/>
            </a:xfrm>
            <a:prstGeom prst="rightArrow">
              <a:avLst>
                <a:gd name="adj1" fmla="val 50000"/>
                <a:gd name="adj2" fmla="val 83346"/>
              </a:avLst>
            </a:prstGeom>
            <a:gradFill rotWithShape="0">
              <a:gsLst>
                <a:gs pos="0">
                  <a:srgbClr val="fefefe"/>
                </a:gs>
                <a:gs pos="50000">
                  <a:srgbClr val="fe2c02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876240" y="1884600"/>
              <a:ext cx="1519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Marcatura radioattiv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819520" y="2286000"/>
              <a:ext cx="1447560" cy="457200"/>
            </a:xfrm>
            <a:prstGeom prst="rightArrow">
              <a:avLst>
                <a:gd name="adj1" fmla="val 50000"/>
                <a:gd name="adj2" fmla="val 79154"/>
              </a:avLst>
            </a:prstGeom>
            <a:gradFill rotWithShape="0">
              <a:gsLst>
                <a:gs pos="0">
                  <a:srgbClr val="fefefe"/>
                </a:gs>
                <a:gs pos="50000">
                  <a:srgbClr val="fe2c02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800440" y="2115000"/>
              <a:ext cx="11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Ibridazi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4660920" y="819000"/>
            <a:ext cx="5124600" cy="6553440"/>
            <a:chOff x="4660920" y="819000"/>
            <a:chExt cx="5124600" cy="6553440"/>
          </a:xfrm>
        </p:grpSpPr>
        <p:pic>
          <p:nvPicPr>
            <p:cNvPr id="944" name="" descr=""/>
            <p:cNvPicPr/>
            <p:nvPr/>
          </p:nvPicPr>
          <p:blipFill>
            <a:blip r:embed="rId1"/>
            <a:stretch/>
          </p:blipFill>
          <p:spPr>
            <a:xfrm>
              <a:off x="4660920" y="819000"/>
              <a:ext cx="5124600" cy="327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5" name="" descr=""/>
            <p:cNvPicPr/>
            <p:nvPr/>
          </p:nvPicPr>
          <p:blipFill>
            <a:blip r:embed="rId2"/>
            <a:stretch/>
          </p:blipFill>
          <p:spPr>
            <a:xfrm>
              <a:off x="4660920" y="4098960"/>
              <a:ext cx="5124600" cy="3273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6" name=""/>
          <p:cNvGrpSpPr/>
          <p:nvPr/>
        </p:nvGrpSpPr>
        <p:grpSpPr>
          <a:xfrm>
            <a:off x="5854680" y="3594240"/>
            <a:ext cx="3972240" cy="3733560"/>
            <a:chOff x="5854680" y="3594240"/>
            <a:chExt cx="3972240" cy="3733560"/>
          </a:xfrm>
        </p:grpSpPr>
        <p:grpSp>
          <p:nvGrpSpPr>
            <p:cNvPr id="947" name=""/>
            <p:cNvGrpSpPr/>
            <p:nvPr/>
          </p:nvGrpSpPr>
          <p:grpSpPr>
            <a:xfrm>
              <a:off x="6151680" y="3724200"/>
              <a:ext cx="1820520" cy="1198800"/>
              <a:chOff x="6151680" y="3724200"/>
              <a:chExt cx="1820520" cy="1198800"/>
            </a:xfrm>
          </p:grpSpPr>
          <p:grpSp>
            <p:nvGrpSpPr>
              <p:cNvPr id="948" name=""/>
              <p:cNvGrpSpPr/>
              <p:nvPr/>
            </p:nvGrpSpPr>
            <p:grpSpPr>
              <a:xfrm>
                <a:off x="6151680" y="3726000"/>
                <a:ext cx="1820520" cy="1187280"/>
                <a:chOff x="6151680" y="3726000"/>
                <a:chExt cx="1820520" cy="1187280"/>
              </a:xfrm>
            </p:grpSpPr>
            <p:sp>
              <p:nvSpPr>
                <p:cNvPr id="949" name=""/>
                <p:cNvSpPr/>
                <p:nvPr/>
              </p:nvSpPr>
              <p:spPr>
                <a:xfrm>
                  <a:off x="6151680" y="4324680"/>
                  <a:ext cx="180288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6152760" y="4249080"/>
                  <a:ext cx="180288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6154200" y="4177080"/>
                  <a:ext cx="180288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6155640" y="4101840"/>
                  <a:ext cx="180288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6157080" y="4029840"/>
                  <a:ext cx="180288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6158520" y="3955320"/>
                  <a:ext cx="180288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6160320" y="3880080"/>
                  <a:ext cx="180288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6161760" y="3804480"/>
                  <a:ext cx="180288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6163200" y="3726000"/>
                  <a:ext cx="180288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6157800" y="4911120"/>
                  <a:ext cx="180288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6159240" y="4839120"/>
                  <a:ext cx="180288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6160320" y="4763880"/>
                  <a:ext cx="180288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6161760" y="4688640"/>
                  <a:ext cx="180288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6163200" y="4616640"/>
                  <a:ext cx="180288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6164640" y="4541760"/>
                  <a:ext cx="180288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6166800" y="4466520"/>
                  <a:ext cx="180288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6169320" y="4393800"/>
                  <a:ext cx="180288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6" name=""/>
              <p:cNvSpPr/>
              <p:nvPr/>
            </p:nvSpPr>
            <p:spPr>
              <a:xfrm flipH="1">
                <a:off x="6759000" y="3724920"/>
                <a:ext cx="1440" cy="118944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flipH="1">
                <a:off x="6835320" y="3724200"/>
                <a:ext cx="1440" cy="118944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flipH="1">
                <a:off x="6908400" y="3724920"/>
                <a:ext cx="1440" cy="118944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 flipH="1">
                <a:off x="6984360" y="3728160"/>
                <a:ext cx="1440" cy="118836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 flipH="1">
                <a:off x="7056360" y="3726000"/>
                <a:ext cx="1440" cy="118944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 flipH="1">
                <a:off x="7131600" y="3727080"/>
                <a:ext cx="1440" cy="118944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 flipH="1">
                <a:off x="7207920" y="3727080"/>
                <a:ext cx="1440" cy="118836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 flipH="1">
                <a:off x="7284240" y="3729240"/>
                <a:ext cx="1440" cy="118944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 flipH="1">
                <a:off x="7362720" y="3730320"/>
                <a:ext cx="1440" cy="118620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 flipH="1">
                <a:off x="6166800" y="3726000"/>
                <a:ext cx="1440" cy="118944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 flipH="1">
                <a:off x="6239880" y="3726000"/>
                <a:ext cx="1440" cy="118944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flipH="1">
                <a:off x="6315120" y="3727080"/>
                <a:ext cx="1440" cy="118836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 flipH="1">
                <a:off x="6391440" y="3724920"/>
                <a:ext cx="1440" cy="118944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H="1">
                <a:off x="6464520" y="3726000"/>
                <a:ext cx="1440" cy="118944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flipH="1">
                <a:off x="6539760" y="3727080"/>
                <a:ext cx="1440" cy="118944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flipH="1">
                <a:off x="6615720" y="3724200"/>
                <a:ext cx="1440" cy="118944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 flipH="1">
                <a:off x="6689160" y="3726000"/>
                <a:ext cx="1440" cy="118944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flipH="1">
                <a:off x="7433640" y="3732480"/>
                <a:ext cx="1440" cy="118944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flipH="1">
                <a:off x="7506720" y="3732480"/>
                <a:ext cx="1440" cy="118944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 flipH="1">
                <a:off x="7581960" y="3733560"/>
                <a:ext cx="1440" cy="118836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flipH="1">
                <a:off x="7658280" y="3731400"/>
                <a:ext cx="1440" cy="118944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flipH="1">
                <a:off x="7731360" y="3732480"/>
                <a:ext cx="1440" cy="118944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flipH="1">
                <a:off x="7806240" y="3733560"/>
                <a:ext cx="1440" cy="118944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flipH="1">
                <a:off x="7882560" y="3730320"/>
                <a:ext cx="1440" cy="118944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 flipH="1">
                <a:off x="7957800" y="3728160"/>
                <a:ext cx="1440" cy="118944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1" name=""/>
            <p:cNvGrpSpPr/>
            <p:nvPr/>
          </p:nvGrpSpPr>
          <p:grpSpPr>
            <a:xfrm>
              <a:off x="7942320" y="6129360"/>
              <a:ext cx="1821960" cy="1198440"/>
              <a:chOff x="7942320" y="6129360"/>
              <a:chExt cx="1821960" cy="1198440"/>
            </a:xfrm>
          </p:grpSpPr>
          <p:grpSp>
            <p:nvGrpSpPr>
              <p:cNvPr id="992" name=""/>
              <p:cNvGrpSpPr/>
              <p:nvPr/>
            </p:nvGrpSpPr>
            <p:grpSpPr>
              <a:xfrm>
                <a:off x="7942320" y="6131160"/>
                <a:ext cx="1821960" cy="1186920"/>
                <a:chOff x="7942320" y="6131160"/>
                <a:chExt cx="1821960" cy="1186920"/>
              </a:xfrm>
            </p:grpSpPr>
            <p:sp>
              <p:nvSpPr>
                <p:cNvPr id="993" name=""/>
                <p:cNvSpPr/>
                <p:nvPr/>
              </p:nvSpPr>
              <p:spPr>
                <a:xfrm>
                  <a:off x="7942320" y="6729480"/>
                  <a:ext cx="180432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7943400" y="6654240"/>
                  <a:ext cx="180432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7944840" y="6582240"/>
                  <a:ext cx="180432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7946280" y="6507000"/>
                  <a:ext cx="180432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7947720" y="6435000"/>
                  <a:ext cx="180432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7949160" y="6360480"/>
                  <a:ext cx="180432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7950960" y="6284880"/>
                  <a:ext cx="180432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7952400" y="6209640"/>
                  <a:ext cx="180432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7953840" y="6131160"/>
                  <a:ext cx="180432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7948440" y="7315920"/>
                  <a:ext cx="180432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7949880" y="7243920"/>
                  <a:ext cx="180432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7950960" y="7168680"/>
                  <a:ext cx="180432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7952400" y="7093440"/>
                  <a:ext cx="180432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7953840" y="7021440"/>
                  <a:ext cx="180432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7955280" y="6946560"/>
                  <a:ext cx="180432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7957440" y="6871320"/>
                  <a:ext cx="180432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7959960" y="6798960"/>
                  <a:ext cx="180432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0" name=""/>
              <p:cNvSpPr/>
              <p:nvPr/>
            </p:nvSpPr>
            <p:spPr>
              <a:xfrm flipH="1">
                <a:off x="8550000" y="613008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 flipH="1">
                <a:off x="8626320" y="612936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H="1">
                <a:off x="8699400" y="613008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 flipH="1">
                <a:off x="8775720" y="6133320"/>
                <a:ext cx="1440" cy="118800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 flipH="1">
                <a:off x="8847720" y="613116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 flipH="1">
                <a:off x="8922960" y="613224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 flipH="1">
                <a:off x="8999280" y="6132240"/>
                <a:ext cx="1440" cy="118800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flipH="1">
                <a:off x="9075600" y="613440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 flipH="1">
                <a:off x="9154440" y="6135480"/>
                <a:ext cx="1440" cy="118584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flipH="1">
                <a:off x="7957440" y="613116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 flipH="1">
                <a:off x="8030520" y="613116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 flipH="1">
                <a:off x="8106120" y="6132240"/>
                <a:ext cx="1440" cy="118800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flipH="1">
                <a:off x="8182440" y="613008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flipH="1">
                <a:off x="8255520" y="613116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flipH="1">
                <a:off x="8330760" y="613224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flipH="1">
                <a:off x="8407080" y="612936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 flipH="1">
                <a:off x="8480160" y="613116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flipH="1">
                <a:off x="9225360" y="613764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flipH="1">
                <a:off x="9298440" y="613764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flipH="1">
                <a:off x="9373680" y="6138720"/>
                <a:ext cx="1440" cy="118800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flipH="1">
                <a:off x="9450000" y="613656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 flipH="1">
                <a:off x="9523080" y="613764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 flipH="1">
                <a:off x="9598320" y="613872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flipH="1">
                <a:off x="9674640" y="613548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flipH="1">
                <a:off x="9749880" y="613332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5" name=""/>
            <p:cNvGrpSpPr/>
            <p:nvPr/>
          </p:nvGrpSpPr>
          <p:grpSpPr>
            <a:xfrm>
              <a:off x="6143760" y="6119640"/>
              <a:ext cx="1821960" cy="1198800"/>
              <a:chOff x="6143760" y="6119640"/>
              <a:chExt cx="1821960" cy="1198800"/>
            </a:xfrm>
          </p:grpSpPr>
          <p:grpSp>
            <p:nvGrpSpPr>
              <p:cNvPr id="1036" name=""/>
              <p:cNvGrpSpPr/>
              <p:nvPr/>
            </p:nvGrpSpPr>
            <p:grpSpPr>
              <a:xfrm>
                <a:off x="6143760" y="6121440"/>
                <a:ext cx="1821960" cy="1187280"/>
                <a:chOff x="6143760" y="6121440"/>
                <a:chExt cx="1821960" cy="1187280"/>
              </a:xfrm>
            </p:grpSpPr>
            <p:sp>
              <p:nvSpPr>
                <p:cNvPr id="1037" name=""/>
                <p:cNvSpPr/>
                <p:nvPr/>
              </p:nvSpPr>
              <p:spPr>
                <a:xfrm>
                  <a:off x="6143760" y="6720120"/>
                  <a:ext cx="180432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6144840" y="6644520"/>
                  <a:ext cx="180432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6146280" y="6572520"/>
                  <a:ext cx="180432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6147720" y="6497280"/>
                  <a:ext cx="180432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6149160" y="6425280"/>
                  <a:ext cx="180432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6150600" y="6350760"/>
                  <a:ext cx="180432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6152400" y="6275520"/>
                  <a:ext cx="180432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6153840" y="6199920"/>
                  <a:ext cx="180432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6155280" y="6121440"/>
                  <a:ext cx="180432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6149880" y="7306560"/>
                  <a:ext cx="180432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6151320" y="7234560"/>
                  <a:ext cx="180432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6152400" y="7159320"/>
                  <a:ext cx="180432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6153840" y="7084080"/>
                  <a:ext cx="180432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6155280" y="7012080"/>
                  <a:ext cx="180432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6156720" y="6937200"/>
                  <a:ext cx="180432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6158880" y="6861960"/>
                  <a:ext cx="180432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6161400" y="6789240"/>
                  <a:ext cx="180432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4" name=""/>
              <p:cNvSpPr/>
              <p:nvPr/>
            </p:nvSpPr>
            <p:spPr>
              <a:xfrm flipH="1">
                <a:off x="6751440" y="6120360"/>
                <a:ext cx="1440" cy="118944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 flipH="1">
                <a:off x="6827760" y="6119640"/>
                <a:ext cx="1440" cy="118944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 flipH="1">
                <a:off x="6900840" y="6120360"/>
                <a:ext cx="1440" cy="118944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 flipH="1">
                <a:off x="6977160" y="6123600"/>
                <a:ext cx="1440" cy="118836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flipH="1">
                <a:off x="7049160" y="6121440"/>
                <a:ext cx="1440" cy="118944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 flipH="1">
                <a:off x="7124400" y="6122520"/>
                <a:ext cx="1440" cy="118944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flipH="1">
                <a:off x="7200720" y="6122520"/>
                <a:ext cx="1440" cy="118836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 flipH="1">
                <a:off x="7277040" y="6124680"/>
                <a:ext cx="1440" cy="118944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 flipH="1">
                <a:off x="7355880" y="6125760"/>
                <a:ext cx="1440" cy="118620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flipH="1">
                <a:off x="6158880" y="6121440"/>
                <a:ext cx="1440" cy="118944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flipH="1">
                <a:off x="6231960" y="6121440"/>
                <a:ext cx="1440" cy="118944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 flipH="1">
                <a:off x="6307560" y="6122520"/>
                <a:ext cx="1440" cy="118836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flipH="1">
                <a:off x="6383880" y="6120360"/>
                <a:ext cx="1440" cy="118944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 flipH="1">
                <a:off x="6456960" y="6121440"/>
                <a:ext cx="1440" cy="118944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 flipH="1">
                <a:off x="6532200" y="6122520"/>
                <a:ext cx="1440" cy="118944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 flipH="1">
                <a:off x="6608520" y="6119640"/>
                <a:ext cx="1440" cy="118944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 flipH="1">
                <a:off x="6681600" y="6121440"/>
                <a:ext cx="1440" cy="118944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flipH="1">
                <a:off x="7426800" y="6127920"/>
                <a:ext cx="1440" cy="118944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 flipH="1">
                <a:off x="7499880" y="6127920"/>
                <a:ext cx="1440" cy="118944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 flipH="1">
                <a:off x="7575120" y="6129000"/>
                <a:ext cx="1440" cy="118836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 flipH="1">
                <a:off x="7651440" y="6126840"/>
                <a:ext cx="1440" cy="118944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flipH="1">
                <a:off x="7724520" y="6127920"/>
                <a:ext cx="1440" cy="118944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 flipH="1">
                <a:off x="7799760" y="6129000"/>
                <a:ext cx="1440" cy="118944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 flipH="1">
                <a:off x="7876080" y="6125760"/>
                <a:ext cx="1440" cy="118944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 flipH="1">
                <a:off x="7951320" y="6123600"/>
                <a:ext cx="1440" cy="118944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9" name=""/>
            <p:cNvGrpSpPr/>
            <p:nvPr/>
          </p:nvGrpSpPr>
          <p:grpSpPr>
            <a:xfrm>
              <a:off x="7945560" y="4932360"/>
              <a:ext cx="1821960" cy="1198440"/>
              <a:chOff x="7945560" y="4932360"/>
              <a:chExt cx="1821960" cy="1198440"/>
            </a:xfrm>
          </p:grpSpPr>
          <p:grpSp>
            <p:nvGrpSpPr>
              <p:cNvPr id="1080" name=""/>
              <p:cNvGrpSpPr/>
              <p:nvPr/>
            </p:nvGrpSpPr>
            <p:grpSpPr>
              <a:xfrm>
                <a:off x="7945560" y="4934160"/>
                <a:ext cx="1821960" cy="1186920"/>
                <a:chOff x="7945560" y="4934160"/>
                <a:chExt cx="1821960" cy="1186920"/>
              </a:xfrm>
            </p:grpSpPr>
            <p:sp>
              <p:nvSpPr>
                <p:cNvPr id="1081" name=""/>
                <p:cNvSpPr/>
                <p:nvPr/>
              </p:nvSpPr>
              <p:spPr>
                <a:xfrm>
                  <a:off x="7945560" y="5532480"/>
                  <a:ext cx="180432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7946640" y="5457240"/>
                  <a:ext cx="180432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7948080" y="5385240"/>
                  <a:ext cx="180432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7949520" y="5310000"/>
                  <a:ext cx="180432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7950960" y="5238000"/>
                  <a:ext cx="180432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7952400" y="5163480"/>
                  <a:ext cx="180432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7954200" y="5087880"/>
                  <a:ext cx="180432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7955640" y="5012640"/>
                  <a:ext cx="180432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7957080" y="4934160"/>
                  <a:ext cx="180432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7951680" y="6118920"/>
                  <a:ext cx="180432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7953120" y="6046920"/>
                  <a:ext cx="180432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7954200" y="5971680"/>
                  <a:ext cx="180432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7955640" y="5896440"/>
                  <a:ext cx="180432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7957080" y="5824440"/>
                  <a:ext cx="180432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7958520" y="5749560"/>
                  <a:ext cx="180432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7960680" y="5674320"/>
                  <a:ext cx="180432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7963200" y="5601960"/>
                  <a:ext cx="180432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8" name=""/>
              <p:cNvSpPr/>
              <p:nvPr/>
            </p:nvSpPr>
            <p:spPr>
              <a:xfrm flipH="1">
                <a:off x="8553240" y="493308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 flipH="1">
                <a:off x="8629560" y="493236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 flipH="1">
                <a:off x="8702640" y="493308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 flipH="1">
                <a:off x="8778960" y="4936320"/>
                <a:ext cx="1440" cy="118800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 flipH="1">
                <a:off x="8850960" y="493416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 flipH="1">
                <a:off x="8926200" y="493524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flipH="1">
                <a:off x="9002520" y="4935240"/>
                <a:ext cx="1440" cy="118800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 flipH="1">
                <a:off x="9078840" y="493740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 flipH="1">
                <a:off x="9157680" y="4938480"/>
                <a:ext cx="1440" cy="118584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 flipH="1">
                <a:off x="7960680" y="493416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 flipH="1">
                <a:off x="8033760" y="493416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 flipH="1">
                <a:off x="8109360" y="4935240"/>
                <a:ext cx="1440" cy="118800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 flipH="1">
                <a:off x="8185680" y="493308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 flipH="1">
                <a:off x="8258760" y="493416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 flipH="1">
                <a:off x="8334000" y="493524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 flipH="1">
                <a:off x="8410320" y="493236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 flipH="1">
                <a:off x="8483400" y="493416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 flipH="1">
                <a:off x="9228600" y="494064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 flipH="1">
                <a:off x="9301680" y="494064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 flipH="1">
                <a:off x="9376920" y="4941720"/>
                <a:ext cx="1440" cy="118800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 flipH="1">
                <a:off x="9453240" y="493956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 flipH="1">
                <a:off x="9526320" y="494064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 flipH="1">
                <a:off x="9601560" y="494172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 flipH="1">
                <a:off x="9677880" y="493848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 flipH="1">
                <a:off x="9753120" y="493632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3" name=""/>
            <p:cNvGrpSpPr/>
            <p:nvPr/>
          </p:nvGrpSpPr>
          <p:grpSpPr>
            <a:xfrm>
              <a:off x="6146640" y="4919760"/>
              <a:ext cx="1822680" cy="1198440"/>
              <a:chOff x="6146640" y="4919760"/>
              <a:chExt cx="1822680" cy="1198440"/>
            </a:xfrm>
          </p:grpSpPr>
          <p:grpSp>
            <p:nvGrpSpPr>
              <p:cNvPr id="1124" name=""/>
              <p:cNvGrpSpPr/>
              <p:nvPr/>
            </p:nvGrpSpPr>
            <p:grpSpPr>
              <a:xfrm>
                <a:off x="6146640" y="4921560"/>
                <a:ext cx="1822680" cy="1186920"/>
                <a:chOff x="6146640" y="4921560"/>
                <a:chExt cx="1822680" cy="1186920"/>
              </a:xfrm>
            </p:grpSpPr>
            <p:sp>
              <p:nvSpPr>
                <p:cNvPr id="1125" name=""/>
                <p:cNvSpPr/>
                <p:nvPr/>
              </p:nvSpPr>
              <p:spPr>
                <a:xfrm>
                  <a:off x="6146640" y="5519880"/>
                  <a:ext cx="180468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6147720" y="5444640"/>
                  <a:ext cx="180468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6149160" y="5372640"/>
                  <a:ext cx="180468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6150600" y="5297400"/>
                  <a:ext cx="180468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6152040" y="5225400"/>
                  <a:ext cx="180468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6153480" y="5150880"/>
                  <a:ext cx="180468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6155640" y="5075280"/>
                  <a:ext cx="180468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6156720" y="5000040"/>
                  <a:ext cx="180468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6158160" y="4921560"/>
                  <a:ext cx="180468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6152760" y="6106320"/>
                  <a:ext cx="180468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6154200" y="6034320"/>
                  <a:ext cx="180468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6155640" y="5959080"/>
                  <a:ext cx="180468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6156720" y="5883840"/>
                  <a:ext cx="180468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6158160" y="5811840"/>
                  <a:ext cx="180468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6159600" y="5736960"/>
                  <a:ext cx="180468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6161760" y="5661720"/>
                  <a:ext cx="180468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6164640" y="5589360"/>
                  <a:ext cx="180468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42" name=""/>
              <p:cNvSpPr/>
              <p:nvPr/>
            </p:nvSpPr>
            <p:spPr>
              <a:xfrm flipH="1">
                <a:off x="6754320" y="492048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 flipH="1">
                <a:off x="6830640" y="491976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 flipH="1">
                <a:off x="6904080" y="492048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 flipH="1">
                <a:off x="6980400" y="4923720"/>
                <a:ext cx="1440" cy="118800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 flipH="1">
                <a:off x="7052400" y="492156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 flipH="1">
                <a:off x="7127640" y="492264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 flipH="1">
                <a:off x="7203960" y="4922640"/>
                <a:ext cx="1440" cy="118800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 flipH="1">
                <a:off x="7280280" y="492480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 flipH="1">
                <a:off x="7358760" y="4925880"/>
                <a:ext cx="1440" cy="118584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 flipH="1">
                <a:off x="6161760" y="492156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 flipH="1">
                <a:off x="6234840" y="492156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flipH="1">
                <a:off x="6310440" y="4922640"/>
                <a:ext cx="1440" cy="118800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 flipH="1">
                <a:off x="6386760" y="492048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 flipH="1">
                <a:off x="6459840" y="492156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 flipH="1">
                <a:off x="6535080" y="492264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 flipH="1">
                <a:off x="6611400" y="491976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 flipH="1">
                <a:off x="6684480" y="492156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 flipH="1">
                <a:off x="7429680" y="492804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 flipH="1">
                <a:off x="7503120" y="492804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 flipH="1">
                <a:off x="7578360" y="4929120"/>
                <a:ext cx="1440" cy="118800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 flipH="1">
                <a:off x="7654680" y="492696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 flipH="1">
                <a:off x="7727760" y="492804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 flipH="1">
                <a:off x="7803000" y="492912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 flipH="1">
                <a:off x="7879320" y="492588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 flipH="1">
                <a:off x="7954560" y="492372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7" name=""/>
            <p:cNvGrpSpPr/>
            <p:nvPr/>
          </p:nvGrpSpPr>
          <p:grpSpPr>
            <a:xfrm>
              <a:off x="7951680" y="3730680"/>
              <a:ext cx="1822680" cy="1198440"/>
              <a:chOff x="7951680" y="3730680"/>
              <a:chExt cx="1822680" cy="1198440"/>
            </a:xfrm>
          </p:grpSpPr>
          <p:grpSp>
            <p:nvGrpSpPr>
              <p:cNvPr id="1168" name=""/>
              <p:cNvGrpSpPr/>
              <p:nvPr/>
            </p:nvGrpSpPr>
            <p:grpSpPr>
              <a:xfrm>
                <a:off x="7951680" y="3732480"/>
                <a:ext cx="1822680" cy="1186920"/>
                <a:chOff x="7951680" y="3732480"/>
                <a:chExt cx="1822680" cy="1186920"/>
              </a:xfrm>
            </p:grpSpPr>
            <p:sp>
              <p:nvSpPr>
                <p:cNvPr id="1169" name=""/>
                <p:cNvSpPr/>
                <p:nvPr/>
              </p:nvSpPr>
              <p:spPr>
                <a:xfrm>
                  <a:off x="7951680" y="4330800"/>
                  <a:ext cx="180468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7952760" y="4255560"/>
                  <a:ext cx="180468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7954200" y="4183560"/>
                  <a:ext cx="180468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7955640" y="4108320"/>
                  <a:ext cx="180468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7957080" y="4036320"/>
                  <a:ext cx="180468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7958520" y="3961800"/>
                  <a:ext cx="180468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7960680" y="3886200"/>
                  <a:ext cx="180468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7961760" y="3810960"/>
                  <a:ext cx="180468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7963200" y="3732480"/>
                  <a:ext cx="180468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7957800" y="4917240"/>
                  <a:ext cx="180468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7959240" y="4845240"/>
                  <a:ext cx="180468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7960680" y="4770000"/>
                  <a:ext cx="180468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7961760" y="4694760"/>
                  <a:ext cx="180468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7963200" y="4622760"/>
                  <a:ext cx="180468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7964640" y="4547880"/>
                  <a:ext cx="180468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7966800" y="4472640"/>
                  <a:ext cx="180468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7969680" y="4400280"/>
                  <a:ext cx="1804680" cy="2160"/>
                </a:xfrm>
                <a:prstGeom prst="line">
                  <a:avLst/>
                </a:prstGeom>
                <a:ln w="3240">
                  <a:solidFill>
                    <a:srgbClr val="44ad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86" name=""/>
              <p:cNvSpPr/>
              <p:nvPr/>
            </p:nvSpPr>
            <p:spPr>
              <a:xfrm flipH="1">
                <a:off x="8559360" y="373140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 flipH="1">
                <a:off x="8635680" y="373068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 flipH="1">
                <a:off x="8709120" y="373140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 flipH="1">
                <a:off x="8785440" y="3734640"/>
                <a:ext cx="1440" cy="118800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 flipH="1">
                <a:off x="8857440" y="373248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 flipH="1">
                <a:off x="8932680" y="373356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 flipH="1">
                <a:off x="9009000" y="3733560"/>
                <a:ext cx="1440" cy="118800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 flipH="1">
                <a:off x="9085320" y="373572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 flipH="1">
                <a:off x="9163800" y="3736800"/>
                <a:ext cx="1440" cy="118584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 flipH="1">
                <a:off x="7966800" y="373248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 flipH="1">
                <a:off x="8039880" y="373248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 flipH="1">
                <a:off x="8115480" y="3733560"/>
                <a:ext cx="1440" cy="118800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 flipH="1">
                <a:off x="8191800" y="373140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 flipH="1">
                <a:off x="8264880" y="373248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 flipH="1">
                <a:off x="8340120" y="373356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 flipH="1">
                <a:off x="8416440" y="373068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 flipH="1">
                <a:off x="8489520" y="373248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 flipH="1">
                <a:off x="9234720" y="373896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 flipH="1">
                <a:off x="9308160" y="373896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 flipH="1">
                <a:off x="9383400" y="3740040"/>
                <a:ext cx="1440" cy="118800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 flipH="1">
                <a:off x="9459720" y="373788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 flipH="1">
                <a:off x="9532800" y="373896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 flipH="1">
                <a:off x="9608040" y="374004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 flipH="1">
                <a:off x="9684360" y="373680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 flipH="1">
                <a:off x="9759600" y="3734640"/>
                <a:ext cx="1440" cy="1189080"/>
              </a:xfrm>
              <a:prstGeom prst="line">
                <a:avLst/>
              </a:prstGeom>
              <a:ln w="3240">
                <a:solidFill>
                  <a:srgbClr val="44ad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1" name=""/>
            <p:cNvSpPr/>
            <p:nvPr/>
          </p:nvSpPr>
          <p:spPr>
            <a:xfrm>
              <a:off x="5854680" y="3700440"/>
              <a:ext cx="309600" cy="50760"/>
            </a:xfrm>
            <a:prstGeom prst="rect">
              <a:avLst/>
            </a:prstGeom>
            <a:solidFill>
              <a:srgbClr val="44ad05"/>
            </a:solidFill>
            <a:ln w="9360">
              <a:solidFill>
                <a:srgbClr val="44ad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6197400" y="3594240"/>
              <a:ext cx="257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6124320" y="3594240"/>
              <a:ext cx="257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248600" y="3597120"/>
              <a:ext cx="2188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014960" y="3597120"/>
              <a:ext cx="257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715080" y="3597120"/>
              <a:ext cx="257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489720" y="3594240"/>
              <a:ext cx="257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7840800" y="3597120"/>
              <a:ext cx="2188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270480" y="3594240"/>
              <a:ext cx="257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350040" y="3594240"/>
              <a:ext cx="257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2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6424560" y="3594240"/>
              <a:ext cx="257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559560" y="3594240"/>
              <a:ext cx="257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640560" y="3594240"/>
              <a:ext cx="257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6786360" y="3597120"/>
              <a:ext cx="257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6862680" y="3597120"/>
              <a:ext cx="257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932520" y="3597120"/>
              <a:ext cx="257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7092720" y="3597120"/>
              <a:ext cx="257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7162560" y="3597120"/>
              <a:ext cx="257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7321680" y="3597120"/>
              <a:ext cx="2188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7394400" y="3597120"/>
              <a:ext cx="2188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7470720" y="3597120"/>
              <a:ext cx="2188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7773840" y="3597120"/>
              <a:ext cx="2188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924520" y="37828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618320" y="3597120"/>
              <a:ext cx="2188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7699320" y="3597120"/>
              <a:ext cx="2188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7551720" y="3597120"/>
              <a:ext cx="2188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985000" y="3678120"/>
              <a:ext cx="203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985000" y="3836880"/>
              <a:ext cx="203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985000" y="3978360"/>
              <a:ext cx="203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985000" y="3753000"/>
              <a:ext cx="203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985000" y="3909960"/>
              <a:ext cx="203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985000" y="4054320"/>
              <a:ext cx="203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5985000" y="4130640"/>
              <a:ext cx="203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985000" y="4208400"/>
              <a:ext cx="203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985000" y="4278240"/>
              <a:ext cx="203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985000" y="4344840"/>
              <a:ext cx="203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985000" y="4422600"/>
              <a:ext cx="203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985000" y="4568760"/>
              <a:ext cx="203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985000" y="4641840"/>
              <a:ext cx="203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985000" y="4803840"/>
              <a:ext cx="203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985000" y="4705200"/>
              <a:ext cx="203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985000" y="4492800"/>
              <a:ext cx="203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937120" y="49816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997600" y="4876920"/>
              <a:ext cx="203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997600" y="5035680"/>
              <a:ext cx="203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997600" y="5176800"/>
              <a:ext cx="203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997600" y="4951440"/>
              <a:ext cx="203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997600" y="5108400"/>
              <a:ext cx="203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997600" y="5253120"/>
              <a:ext cx="203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997600" y="5329080"/>
              <a:ext cx="203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997600" y="5407200"/>
              <a:ext cx="203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997600" y="5477040"/>
              <a:ext cx="203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997600" y="5543640"/>
              <a:ext cx="203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997600" y="5621400"/>
              <a:ext cx="203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997600" y="5767560"/>
              <a:ext cx="203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997600" y="5840280"/>
              <a:ext cx="203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997600" y="5985000"/>
              <a:ext cx="203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997600" y="5913360"/>
              <a:ext cx="203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997600" y="5691240"/>
              <a:ext cx="203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rot="1981800">
              <a:off x="7381440" y="4762440"/>
              <a:ext cx="381240" cy="76320"/>
            </a:xfrm>
            <a:prstGeom prst="rightArrow">
              <a:avLst>
                <a:gd name="adj1" fmla="val 50000"/>
                <a:gd name="adj2" fmla="val 124882"/>
              </a:avLst>
            </a:prstGeom>
            <a:solidFill>
              <a:srgbClr val="99cc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1" name=""/>
            <p:cNvGrpSpPr/>
            <p:nvPr/>
          </p:nvGrpSpPr>
          <p:grpSpPr>
            <a:xfrm>
              <a:off x="6110280" y="4614480"/>
              <a:ext cx="3716640" cy="2696040"/>
              <a:chOff x="6110280" y="4614480"/>
              <a:chExt cx="3716640" cy="2696040"/>
            </a:xfrm>
          </p:grpSpPr>
          <p:sp>
            <p:nvSpPr>
              <p:cNvPr id="1272" name=""/>
              <p:cNvSpPr/>
              <p:nvPr/>
            </p:nvSpPr>
            <p:spPr>
              <a:xfrm>
                <a:off x="6120000" y="4624200"/>
                <a:ext cx="935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ff00"/>
                    </a:solidFill>
                    <a:latin typeface="Comic Sans MS"/>
                  </a:rPr>
                  <a:t>Pannello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110280" y="5814720"/>
                <a:ext cx="935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ff00"/>
                    </a:solidFill>
                    <a:latin typeface="Comic Sans MS"/>
                  </a:rPr>
                  <a:t>Pannello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6110280" y="7014960"/>
                <a:ext cx="935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ff00"/>
                    </a:solidFill>
                    <a:latin typeface="Comic Sans MS"/>
                  </a:rPr>
                  <a:t>Pannello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8872560" y="7034040"/>
                <a:ext cx="935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ff00"/>
                    </a:solidFill>
                    <a:latin typeface="Comic Sans MS"/>
                  </a:rPr>
                  <a:t>Pannello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8881920" y="5824440"/>
                <a:ext cx="935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ff00"/>
                    </a:solidFill>
                    <a:latin typeface="Comic Sans MS"/>
                  </a:rPr>
                  <a:t>Pannello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8891640" y="4614480"/>
                <a:ext cx="935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ff00"/>
                    </a:solidFill>
                    <a:latin typeface="Comic Sans MS"/>
                  </a:rPr>
                  <a:t>Pannello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78" name=""/>
          <p:cNvSpPr/>
          <p:nvPr/>
        </p:nvSpPr>
        <p:spPr>
          <a:xfrm>
            <a:off x="8375760" y="208080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Comic Sans MS"/>
              </a:rPr>
              <a:t>FILTRO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718160" y="558612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Comic Sans MS"/>
              </a:rPr>
              <a:t>FILTRO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123840" y="4770720"/>
            <a:ext cx="4419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gni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egmento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e’ costituito da un numero variabile di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iltri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fogli di nitrocellulosa dove sono depositati I cloni BAC della librer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DBCF-37FE-40C9-BA95-B8897DC61AE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-9360" y="990360"/>
            <a:ext cx="4876560" cy="8636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900" spc="-1" strike="noStrike">
                <a:solidFill>
                  <a:srgbClr val="fe2c02"/>
                </a:solidFill>
                <a:latin typeface="Comic Sans MS"/>
              </a:rPr>
              <a:t>Esempio di screening II</a:t>
            </a:r>
            <a:endParaRPr b="1" lang="en-US" sz="1900" spc="-1" strike="noStrike">
              <a:solidFill>
                <a:srgbClr val="ff0b00"/>
              </a:solidFill>
              <a:latin typeface="Comic Sans MS"/>
            </a:endParaRPr>
          </a:p>
        </p:txBody>
      </p:sp>
      <p:sp>
        <p:nvSpPr>
          <p:cNvPr id="1282" name=""/>
          <p:cNvSpPr/>
          <p:nvPr/>
        </p:nvSpPr>
        <p:spPr>
          <a:xfrm>
            <a:off x="171360" y="7270920"/>
            <a:ext cx="7194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3" name="" descr=""/>
          <p:cNvPicPr/>
          <p:nvPr/>
        </p:nvPicPr>
        <p:blipFill>
          <a:blip r:embed="rId1"/>
          <a:stretch/>
        </p:blipFill>
        <p:spPr>
          <a:xfrm>
            <a:off x="5029200" y="785880"/>
            <a:ext cx="4846680" cy="3557520"/>
          </a:xfrm>
          <a:prstGeom prst="rect">
            <a:avLst/>
          </a:prstGeom>
          <a:ln w="0">
            <a:noFill/>
          </a:ln>
        </p:spPr>
      </p:pic>
      <p:pic>
        <p:nvPicPr>
          <p:cNvPr id="1284" name="" descr=""/>
          <p:cNvPicPr/>
          <p:nvPr/>
        </p:nvPicPr>
        <p:blipFill>
          <a:blip r:embed="rId2"/>
          <a:stretch/>
        </p:blipFill>
        <p:spPr>
          <a:xfrm>
            <a:off x="73080" y="4419720"/>
            <a:ext cx="7547040" cy="2900160"/>
          </a:xfrm>
          <a:prstGeom prst="rect">
            <a:avLst/>
          </a:prstGeom>
          <a:ln w="0">
            <a:noFill/>
          </a:ln>
        </p:spPr>
      </p:pic>
      <p:grpSp>
        <p:nvGrpSpPr>
          <p:cNvPr id="1285" name=""/>
          <p:cNvGrpSpPr/>
          <p:nvPr/>
        </p:nvGrpSpPr>
        <p:grpSpPr>
          <a:xfrm>
            <a:off x="1405440" y="3234960"/>
            <a:ext cx="3412440" cy="1134720"/>
            <a:chOff x="1405440" y="3234960"/>
            <a:chExt cx="3412440" cy="1134720"/>
          </a:xfrm>
        </p:grpSpPr>
        <p:sp>
          <p:nvSpPr>
            <p:cNvPr id="1286" name=""/>
            <p:cNvSpPr/>
            <p:nvPr/>
          </p:nvSpPr>
          <p:spPr>
            <a:xfrm rot="12600000">
              <a:off x="3352320" y="3580920"/>
              <a:ext cx="1447920" cy="457200"/>
            </a:xfrm>
            <a:prstGeom prst="rightArrow">
              <a:avLst>
                <a:gd name="adj1" fmla="val 50000"/>
                <a:gd name="adj2" fmla="val 79173"/>
              </a:avLst>
            </a:prstGeom>
            <a:gradFill rotWithShape="0">
              <a:gsLst>
                <a:gs pos="0">
                  <a:srgbClr val="fefefe"/>
                </a:gs>
                <a:gs pos="50000">
                  <a:srgbClr val="fe2c02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405440" y="3234960"/>
              <a:ext cx="1946880" cy="398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Il BAC e’ 151P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DDA5-7E8A-4FE7-8496-85A83BC1076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"/>
          <p:cNvSpPr/>
          <p:nvPr/>
        </p:nvSpPr>
        <p:spPr>
          <a:xfrm>
            <a:off x="227160" y="7213680"/>
            <a:ext cx="951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740880" y="659880"/>
            <a:ext cx="8393400" cy="4827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900" spc="-1" strike="noStrike">
                <a:solidFill>
                  <a:srgbClr val="fe2c02"/>
                </a:solidFill>
                <a:latin typeface="Comic Sans MS"/>
              </a:rPr>
              <a:t>Dove vengono conservati i cloni?</a:t>
            </a:r>
            <a:endParaRPr b="1" lang="en-US" sz="1900" spc="-1" strike="noStrike">
              <a:solidFill>
                <a:srgbClr val="ff0b00"/>
              </a:solidFill>
              <a:latin typeface="Comic Sans MS"/>
            </a:endParaRPr>
          </a:p>
        </p:txBody>
      </p:sp>
      <p:sp>
        <p:nvSpPr>
          <p:cNvPr id="1290" name=""/>
          <p:cNvSpPr/>
          <p:nvPr/>
        </p:nvSpPr>
        <p:spPr>
          <a:xfrm>
            <a:off x="162000" y="1280880"/>
            <a:ext cx="9524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freezer a -80ºC sono utilizzati per conservare le plate in cui ogni clone (in glicerolo) e’ separato dagli altri e facilmente identificabile dagli altri (sistema delle coordian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1" name="" descr=""/>
          <p:cNvPicPr/>
          <p:nvPr/>
        </p:nvPicPr>
        <p:blipFill>
          <a:blip r:embed="rId1"/>
          <a:stretch/>
        </p:blipFill>
        <p:spPr>
          <a:xfrm>
            <a:off x="2832120" y="2070000"/>
            <a:ext cx="6781680" cy="508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4170-3B21-44C3-9BDC-F823BF178E8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740880" y="659880"/>
            <a:ext cx="8393400" cy="4827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900" spc="-1" strike="noStrike">
                <a:solidFill>
                  <a:srgbClr val="fe2c02"/>
                </a:solidFill>
                <a:latin typeface="Comic Sans MS"/>
              </a:rPr>
              <a:t>Dove vengono conservati i cloni?</a:t>
            </a:r>
            <a:endParaRPr b="1" lang="en-US" sz="1900" spc="-1" strike="noStrike">
              <a:solidFill>
                <a:srgbClr val="ff0b00"/>
              </a:solidFill>
              <a:latin typeface="Comic Sans MS"/>
            </a:endParaRPr>
          </a:p>
        </p:txBody>
      </p:sp>
      <p:pic>
        <p:nvPicPr>
          <p:cNvPr id="1293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5334120" cy="4000320"/>
          </a:xfrm>
          <a:prstGeom prst="rect">
            <a:avLst/>
          </a:prstGeom>
          <a:ln w="0">
            <a:noFill/>
          </a:ln>
        </p:spPr>
      </p:pic>
      <p:pic>
        <p:nvPicPr>
          <p:cNvPr id="1294" name="" descr=""/>
          <p:cNvPicPr/>
          <p:nvPr/>
        </p:nvPicPr>
        <p:blipFill>
          <a:blip r:embed="rId2"/>
          <a:stretch/>
        </p:blipFill>
        <p:spPr>
          <a:xfrm>
            <a:off x="4410000" y="3308400"/>
            <a:ext cx="5465880" cy="409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3064-A93B-478F-8EF3-8041366B146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838080"/>
            <a:ext cx="1905120" cy="5639040"/>
            <a:chOff x="0" y="838080"/>
            <a:chExt cx="1905120" cy="5639040"/>
          </a:xfrm>
        </p:grpSpPr>
        <p:sp>
          <p:nvSpPr>
            <p:cNvPr id="55" name=""/>
            <p:cNvSpPr/>
            <p:nvPr/>
          </p:nvSpPr>
          <p:spPr>
            <a:xfrm>
              <a:off x="0" y="838080"/>
              <a:ext cx="1905120" cy="5639040"/>
            </a:xfrm>
            <a:prstGeom prst="rect">
              <a:avLst/>
            </a:prstGeom>
            <a:gradFill rotWithShape="0">
              <a:gsLst>
                <a:gs pos="0">
                  <a:srgbClr val="ddebcf">
                    <a:alpha val="60392"/>
                  </a:srgbClr>
                </a:gs>
                <a:gs pos="100000">
                  <a:srgbClr val="156b1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Analisi 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ompu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03040" y="1013040"/>
              <a:ext cx="1540080" cy="72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A1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:Omologo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anima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mappato?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2280" y="2184120"/>
              <a:ext cx="1689120" cy="77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A2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: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Omologo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anima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lonato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2240" y="3543120"/>
              <a:ext cx="1636560" cy="77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A3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: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Ricer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nei datab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genetic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962520" y="838080"/>
            <a:ext cx="1904760" cy="6324840"/>
            <a:chOff x="3962520" y="838080"/>
            <a:chExt cx="1904760" cy="6324840"/>
          </a:xfrm>
        </p:grpSpPr>
        <p:sp>
          <p:nvSpPr>
            <p:cNvPr id="60" name=""/>
            <p:cNvSpPr/>
            <p:nvPr/>
          </p:nvSpPr>
          <p:spPr>
            <a:xfrm>
              <a:off x="3962520" y="838080"/>
              <a:ext cx="1904760" cy="6324840"/>
            </a:xfrm>
            <a:prstGeom prst="rect">
              <a:avLst/>
            </a:prstGeom>
            <a:gradFill rotWithShape="0">
              <a:gsLst>
                <a:gs pos="0">
                  <a:srgbClr val="8488c4">
                    <a:alpha val="60392"/>
                  </a:srgbClr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Informazion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linic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40360" y="1030320"/>
              <a:ext cx="1650960" cy="72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C1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:raccol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famiglie p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mappatura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40360" y="1940760"/>
              <a:ext cx="1650960" cy="116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C2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: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delezioni o traslocazion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romosomic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40360" y="5589360"/>
              <a:ext cx="1636560" cy="77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C5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: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Raccol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pazienti n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imparentat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1981080" y="1025640"/>
            <a:ext cx="1819440" cy="4651920"/>
            <a:chOff x="1981080" y="1025640"/>
            <a:chExt cx="1819440" cy="4651920"/>
          </a:xfrm>
        </p:grpSpPr>
        <p:sp>
          <p:nvSpPr>
            <p:cNvPr id="65" name=""/>
            <p:cNvSpPr/>
            <p:nvPr/>
          </p:nvSpPr>
          <p:spPr>
            <a:xfrm>
              <a:off x="2133720" y="1025640"/>
              <a:ext cx="1666800" cy="72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B1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:region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romosom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andidata?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133720" y="2239200"/>
              <a:ext cx="1650960" cy="750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B2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: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Verifica nei database dei geni della regio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133720" y="3558960"/>
              <a:ext cx="1636560" cy="775080"/>
            </a:xfrm>
            <a:prstGeom prst="rect">
              <a:avLst/>
            </a:prstGeom>
            <a:gradFill rotWithShape="0">
              <a:gsLst>
                <a:gs pos="0">
                  <a:srgbClr val="fe2c02"/>
                </a:gs>
                <a:gs pos="100000">
                  <a:srgbClr val="f8f5c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B3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:</a:t>
              </a: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ossibi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ge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candidato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981080" y="4708080"/>
              <a:ext cx="1789200" cy="96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B4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: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e’ sta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ompletamen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aratterizzato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6019920" y="838080"/>
            <a:ext cx="1904760" cy="6324840"/>
            <a:chOff x="6019920" y="838080"/>
            <a:chExt cx="1904760" cy="6324840"/>
          </a:xfrm>
        </p:grpSpPr>
        <p:sp>
          <p:nvSpPr>
            <p:cNvPr id="70" name=""/>
            <p:cNvSpPr/>
            <p:nvPr/>
          </p:nvSpPr>
          <p:spPr>
            <a:xfrm>
              <a:off x="6019920" y="838080"/>
              <a:ext cx="1904760" cy="6324840"/>
            </a:xfrm>
            <a:prstGeom prst="rect">
              <a:avLst/>
            </a:prstGeom>
            <a:gradFill rotWithShape="0">
              <a:gsLst>
                <a:gs pos="0">
                  <a:srgbClr val="fbeac7">
                    <a:alpha val="60392"/>
                  </a:srgbClr>
                </a:gs>
                <a:gs pos="100000">
                  <a:srgbClr val="fee7f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Informazion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di laborator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019920" y="1030320"/>
              <a:ext cx="1904760" cy="72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D1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:mappatu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genetica: ricer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genom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197760" y="2134800"/>
              <a:ext cx="1650960" cy="77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D2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: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lonaggio dei punti di rottura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197760" y="3160440"/>
              <a:ext cx="1636560" cy="96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D3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: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nuovi gen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umani identificat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197760" y="4326840"/>
              <a:ext cx="1650960" cy="96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D4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: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struttu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genomica 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sequenza comple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197760" y="5637960"/>
              <a:ext cx="1636560" cy="677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D5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: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Ricer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delle mutazion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8077320" y="1029240"/>
            <a:ext cx="1746360" cy="5290560"/>
            <a:chOff x="8077320" y="1029240"/>
            <a:chExt cx="1746360" cy="5290560"/>
          </a:xfrm>
        </p:grpSpPr>
        <p:sp>
          <p:nvSpPr>
            <p:cNvPr id="77" name=""/>
            <p:cNvSpPr/>
            <p:nvPr/>
          </p:nvSpPr>
          <p:spPr>
            <a:xfrm>
              <a:off x="8096040" y="1029240"/>
              <a:ext cx="1727640" cy="53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E1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:trovata l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localizzazione?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102520" y="2076480"/>
              <a:ext cx="1650960" cy="896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E2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errore nel tipo di eredita’ 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eterogeneita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genet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77320" y="3299760"/>
              <a:ext cx="1636560" cy="96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E3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: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ripensare ai geni candidati: vai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A2,A3,D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077320" y="5544720"/>
              <a:ext cx="1636560" cy="77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E5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: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tro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mutazioni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patogene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40880" y="533160"/>
            <a:ext cx="8393400" cy="330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400" spc="-1" strike="noStrike">
                <a:solidFill>
                  <a:srgbClr val="ff0b00"/>
                </a:solidFill>
                <a:latin typeface="Comic Sans MS"/>
              </a:rPr>
              <a:t>Come identificare i geni</a:t>
            </a:r>
            <a:endParaRPr b="1" lang="en-US" sz="2400" spc="-1" strike="noStrike">
              <a:solidFill>
                <a:srgbClr val="ff0b00"/>
              </a:solidFill>
              <a:latin typeface="Comic Sans MS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762120" y="5791320"/>
            <a:ext cx="8462520" cy="1676160"/>
            <a:chOff x="762120" y="5791320"/>
            <a:chExt cx="8462520" cy="1676160"/>
          </a:xfrm>
        </p:grpSpPr>
        <p:sp>
          <p:nvSpPr>
            <p:cNvPr id="83" name=""/>
            <p:cNvSpPr/>
            <p:nvPr/>
          </p:nvSpPr>
          <p:spPr>
            <a:xfrm>
              <a:off x="762120" y="5791320"/>
              <a:ext cx="2819160" cy="1676160"/>
            </a:xfrm>
            <a:prstGeom prst="irregularSeal2">
              <a:avLst/>
            </a:pr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TROVATO!!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9220320" y="6400800"/>
              <a:ext cx="0" cy="83808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2488680" y="7237440"/>
              <a:ext cx="6735960" cy="144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649720" y="6652800"/>
              <a:ext cx="42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S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876240" y="1295280"/>
            <a:ext cx="8572680" cy="4791240"/>
            <a:chOff x="876240" y="1295280"/>
            <a:chExt cx="8572680" cy="4791240"/>
          </a:xfrm>
        </p:grpSpPr>
        <p:sp>
          <p:nvSpPr>
            <p:cNvPr id="88" name=""/>
            <p:cNvSpPr/>
            <p:nvPr/>
          </p:nvSpPr>
          <p:spPr>
            <a:xfrm>
              <a:off x="3657600" y="1905120"/>
              <a:ext cx="0" cy="15228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752480" y="1295280"/>
              <a:ext cx="381240" cy="304920"/>
            </a:xfrm>
            <a:prstGeom prst="rightArrow">
              <a:avLst>
                <a:gd name="adj1" fmla="val 50000"/>
                <a:gd name="adj2" fmla="val 31257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S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5400000">
              <a:off x="2723760" y="1809720"/>
              <a:ext cx="419400" cy="304920"/>
            </a:xfrm>
            <a:prstGeom prst="rightArrow">
              <a:avLst>
                <a:gd name="adj1" fmla="val 50000"/>
                <a:gd name="adj2" fmla="val 34386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S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838080" y="1828440"/>
              <a:ext cx="381240" cy="304920"/>
            </a:xfrm>
            <a:prstGeom prst="rightArrow">
              <a:avLst>
                <a:gd name="adj1" fmla="val 50000"/>
                <a:gd name="adj2" fmla="val 3125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733920" y="1295280"/>
              <a:ext cx="380880" cy="304920"/>
            </a:xfrm>
            <a:prstGeom prst="rightArrow">
              <a:avLst>
                <a:gd name="adj1" fmla="val 50000"/>
                <a:gd name="adj2" fmla="val 31228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791320" y="1371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24680" y="1371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5400000">
              <a:off x="3466800" y="2095200"/>
              <a:ext cx="381240" cy="152640"/>
            </a:xfrm>
            <a:prstGeom prst="rightArrow">
              <a:avLst>
                <a:gd name="adj1" fmla="val 50000"/>
                <a:gd name="adj2" fmla="val 62441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57600" y="1905120"/>
              <a:ext cx="4737240" cy="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381880" y="159984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963920" y="1547280"/>
              <a:ext cx="42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S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5400000">
              <a:off x="8743320" y="1695240"/>
              <a:ext cx="571680" cy="304920"/>
            </a:xfrm>
            <a:prstGeom prst="rightArrow">
              <a:avLst>
                <a:gd name="adj1" fmla="val 50000"/>
                <a:gd name="adj2" fmla="val 46871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9448920" y="16002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99072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676520" y="38862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7180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523880" y="30481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23880" y="32767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438280" y="327672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467480" y="29718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3276360" y="3124080"/>
              <a:ext cx="4190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76720" y="31240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791320" y="2514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733920" y="2514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24080" y="44197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895480" y="5638680"/>
              <a:ext cx="0" cy="38124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95480" y="6019920"/>
              <a:ext cx="1219320" cy="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91920" y="5687640"/>
              <a:ext cx="42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S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867280" y="594360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810560" y="594360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6200000">
              <a:off x="8305920" y="4723920"/>
              <a:ext cx="1066680" cy="304920"/>
            </a:xfrm>
            <a:prstGeom prst="rightArrow">
              <a:avLst>
                <a:gd name="adj1" fmla="val 50000"/>
                <a:gd name="adj2" fmla="val 87456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848720" y="3657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09880" y="3733920"/>
              <a:ext cx="236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09880" y="5181480"/>
              <a:ext cx="236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09880" y="4800600"/>
              <a:ext cx="2362320" cy="304920"/>
            </a:xfrm>
            <a:prstGeom prst="rightArrow">
              <a:avLst>
                <a:gd name="adj1" fmla="val 58333"/>
                <a:gd name="adj2" fmla="val 135363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BB25-46FC-4160-8C2B-E879CB32FD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740880" y="659880"/>
            <a:ext cx="8393400" cy="4827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900" spc="-1" strike="noStrike">
                <a:solidFill>
                  <a:srgbClr val="fe2c02"/>
                </a:solidFill>
                <a:latin typeface="Comic Sans MS"/>
              </a:rPr>
              <a:t>Dove vengono conservati i cloni?</a:t>
            </a:r>
            <a:endParaRPr b="1" lang="en-US" sz="1900" spc="-1" strike="noStrike">
              <a:solidFill>
                <a:srgbClr val="ff0b00"/>
              </a:solidFill>
              <a:latin typeface="Comic Sans MS"/>
            </a:endParaRPr>
          </a:p>
        </p:txBody>
      </p:sp>
      <p:pic>
        <p:nvPicPr>
          <p:cNvPr id="1296" name="" descr=""/>
          <p:cNvPicPr/>
          <p:nvPr/>
        </p:nvPicPr>
        <p:blipFill>
          <a:blip r:embed="rId1"/>
          <a:stretch/>
        </p:blipFill>
        <p:spPr>
          <a:xfrm>
            <a:off x="1523880" y="1828800"/>
            <a:ext cx="5816880" cy="4362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A3E3-4635-4E23-ADCE-1505A0D6A3D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638320" y="1904760"/>
            <a:ext cx="4000680" cy="533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900" spc="-1" strike="noStrike">
                <a:solidFill>
                  <a:srgbClr val="fe2c02"/>
                </a:solidFill>
                <a:latin typeface="Comic Sans MS"/>
              </a:rPr>
              <a:t>Le piastre e i filtri</a:t>
            </a:r>
            <a:endParaRPr b="1" lang="en-US" sz="1900" spc="-1" strike="noStrike">
              <a:solidFill>
                <a:srgbClr val="ff0b00"/>
              </a:solidFill>
              <a:latin typeface="Comic Sans MS"/>
            </a:endParaRPr>
          </a:p>
        </p:txBody>
      </p:sp>
      <p:pic>
        <p:nvPicPr>
          <p:cNvPr id="1298" name="" descr=""/>
          <p:cNvPicPr/>
          <p:nvPr/>
        </p:nvPicPr>
        <p:blipFill>
          <a:blip r:embed="rId1"/>
          <a:stretch/>
        </p:blipFill>
        <p:spPr>
          <a:xfrm>
            <a:off x="4711680" y="3505320"/>
            <a:ext cx="5105520" cy="3828960"/>
          </a:xfrm>
          <a:prstGeom prst="rect">
            <a:avLst/>
          </a:prstGeom>
          <a:ln w="0">
            <a:noFill/>
          </a:ln>
        </p:spPr>
      </p:pic>
      <p:pic>
        <p:nvPicPr>
          <p:cNvPr id="1299" name="" descr=""/>
          <p:cNvPicPr/>
          <p:nvPr/>
        </p:nvPicPr>
        <p:blipFill>
          <a:blip r:embed="rId2"/>
          <a:stretch/>
        </p:blipFill>
        <p:spPr>
          <a:xfrm>
            <a:off x="76320" y="9144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5239-E0E3-4AE3-B71A-2C4C4C29508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900" spc="-1" strike="noStrike">
                <a:solidFill>
                  <a:srgbClr val="fe2c02"/>
                </a:solidFill>
                <a:latin typeface="Comic Sans MS"/>
              </a:rPr>
              <a:t>RICERCANDO UN GENE NELLE BANCHE DATI GENOMICHE</a:t>
            </a:r>
            <a:endParaRPr b="1" lang="en-US" sz="1900" spc="-1" strike="noStrike">
              <a:solidFill>
                <a:srgbClr val="ff0b00"/>
              </a:solidFill>
              <a:latin typeface="Comic Sans MS"/>
            </a:endParaRPr>
          </a:p>
        </p:txBody>
      </p:sp>
      <p:sp>
        <p:nvSpPr>
          <p:cNvPr id="1301" name=""/>
          <p:cNvSpPr/>
          <p:nvPr/>
        </p:nvSpPr>
        <p:spPr>
          <a:xfrm>
            <a:off x="3571560" y="3311280"/>
            <a:ext cx="25750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creening di libre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228600" y="4436640"/>
            <a:ext cx="92203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Si puo’ cercare il clone genomico che contiene un dato S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mic Sans MS"/>
              </a:rPr>
              <a:t>(si amplifica il DNA genomico con i primer corrispodnenti all’STS e si ibrida sui filtri il prodotto di PC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284040" y="2130840"/>
            <a:ext cx="932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 trovare un clone di interesse e’ necessario testare la libreria con una data sequ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4343400" y="2705040"/>
            <a:ext cx="990720" cy="457200"/>
          </a:xfrm>
          <a:prstGeom prst="downArrow">
            <a:avLst>
              <a:gd name="adj1" fmla="val 50000"/>
              <a:gd name="adj2" fmla="val 58333"/>
            </a:avLst>
          </a:prstGeom>
          <a:solidFill>
            <a:srgbClr val="ffff00">
              <a:alpha val="40000"/>
            </a:srgbClr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914400" y="5403240"/>
            <a:ext cx="93726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Comic Sans MS"/>
              </a:rPr>
              <a:t>Si puo’ cercare il clone genomico che contiene un ge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80"/>
                </a:solidFill>
                <a:latin typeface="Comic Sans MS"/>
              </a:rPr>
              <a:t>(si puo’ utilizzare la stessa strategia amplificando un frammento di un gene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1823400" y="6357240"/>
            <a:ext cx="69289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Comic Sans MS"/>
              </a:rPr>
              <a:t>Si puo’ cercare il numero di copie di un dato gene (o S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99"/>
                </a:solidFill>
                <a:latin typeface="Comic Sans MS"/>
              </a:rPr>
              <a:t>(e’ essenziale conoscere la ridondanza della libreri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6C61-E9E3-4EEC-91B1-49BECCB285F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635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f0b00"/>
                </a:solidFill>
                <a:latin typeface="Comic Sans MS"/>
              </a:rPr>
              <a:t>Le delezioni</a:t>
            </a:r>
            <a:endParaRPr b="1" lang="en-US" sz="2800" spc="-1" strike="noStrike">
              <a:solidFill>
                <a:srgbClr val="ff0b00"/>
              </a:solidFill>
              <a:latin typeface="Comic Sans MS"/>
            </a:endParaRPr>
          </a:p>
        </p:txBody>
      </p:sp>
      <p:sp>
        <p:nvSpPr>
          <p:cNvPr id="124" name=""/>
          <p:cNvSpPr/>
          <p:nvPr/>
        </p:nvSpPr>
        <p:spPr>
          <a:xfrm>
            <a:off x="236520" y="1408320"/>
            <a:ext cx="9441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e sono molto ampie :visibili al microscopio possono essere il punto di partenza per identificare una regione candidata: PW/As, Cat eye 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a perdita di una regione ampia genera un fenotipo complesso, in cui poi bisogna identificare la regione di minimo overl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2993040"/>
            <a:ext cx="9441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ggi ci si concentra sulle microdelezioni, invisibili al microsocpio, ma identificabili con le metodiche molecolari. Le microdelezioni sono comunque nell’ordine di centinaia di kilobasi e possono essere originate dalla presenza di sequenze ripetute che mediano riarrangiamenti genomi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5066280"/>
            <a:ext cx="944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a perdita di eterozigosi e’ una evidenza di delezioni, spesso utilizzata ne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um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014A-56B9-431A-B817-975ECE9179F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95360" y="1295280"/>
            <a:ext cx="916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amiglia con figlia affetta da retinoblastoma: RFLP dell’esterasi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58880" y="1981080"/>
            <a:ext cx="578160" cy="5335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44960" y="1981080"/>
            <a:ext cx="57780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37040" y="2222640"/>
            <a:ext cx="907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49600" y="220968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49600" y="2895480"/>
            <a:ext cx="2971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521400" y="28954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232680" y="3200400"/>
            <a:ext cx="577800" cy="533520"/>
          </a:xfrm>
          <a:prstGeom prst="ellipse">
            <a:avLst/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58880" y="3962520"/>
            <a:ext cx="5283360" cy="2666880"/>
          </a:xfrm>
          <a:prstGeom prst="rect">
            <a:avLst/>
          </a:prstGeom>
          <a:solidFill>
            <a:srgbClr val="c2bf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41680" y="4419720"/>
            <a:ext cx="49536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10200" y="4419720"/>
            <a:ext cx="494640" cy="990360"/>
            <a:chOff x="4210200" y="4419720"/>
            <a:chExt cx="494640" cy="990360"/>
          </a:xfrm>
        </p:grpSpPr>
        <p:sp>
          <p:nvSpPr>
            <p:cNvPr id="138" name=""/>
            <p:cNvSpPr/>
            <p:nvPr/>
          </p:nvSpPr>
          <p:spPr>
            <a:xfrm>
              <a:off x="4210200" y="4419720"/>
              <a:ext cx="49464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10200" y="5257800"/>
              <a:ext cx="49464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7182000" y="5257800"/>
            <a:ext cx="49500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6273720" y="4419720"/>
            <a:ext cx="495000" cy="990360"/>
            <a:chOff x="6273720" y="4419720"/>
            <a:chExt cx="495000" cy="990360"/>
          </a:xfrm>
        </p:grpSpPr>
        <p:sp>
          <p:nvSpPr>
            <p:cNvPr id="142" name=""/>
            <p:cNvSpPr/>
            <p:nvPr/>
          </p:nvSpPr>
          <p:spPr>
            <a:xfrm>
              <a:off x="6273720" y="4419720"/>
              <a:ext cx="4950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273720" y="5257800"/>
              <a:ext cx="4950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6915600" y="3381480"/>
            <a:ext cx="106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ellu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umor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03080" y="5791320"/>
            <a:ext cx="125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omozigo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48760" y="5791320"/>
            <a:ext cx="134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eterozigo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582520" y="5791320"/>
            <a:ext cx="134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eterozigo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95600" y="5791320"/>
            <a:ext cx="6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LO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40880" y="659880"/>
            <a:ext cx="8393400" cy="4827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f0b00"/>
                </a:solidFill>
                <a:latin typeface="Comic Sans MS"/>
              </a:rPr>
              <a:t>Perdita di eterozigosita’ LOH</a:t>
            </a:r>
            <a:endParaRPr b="1" lang="en-US" sz="2800" spc="-1" strike="noStrike">
              <a:solidFill>
                <a:srgbClr val="ff0b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4B9C-5656-4423-81C7-86B40176714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40880" y="659880"/>
            <a:ext cx="8393400" cy="4827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f0b00"/>
                </a:solidFill>
                <a:latin typeface="Comic Sans MS"/>
              </a:rPr>
              <a:t>Multiplex per le delezioni DMD</a:t>
            </a:r>
            <a:endParaRPr b="1" lang="en-US" sz="2800" spc="-1" strike="noStrike">
              <a:solidFill>
                <a:srgbClr val="ff0b00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922320" y="1246320"/>
            <a:ext cx="73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est per evidenziare gli esoni 42, 43, 44, 45, 47, 48, 50, 51, 52, 6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12920" y="1676520"/>
            <a:ext cx="412560" cy="2133360"/>
          </a:xfrm>
          <a:prstGeom prst="can">
            <a:avLst>
              <a:gd name="adj" fmla="val 1168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4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4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5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5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5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38400" y="1676520"/>
            <a:ext cx="412560" cy="2133360"/>
          </a:xfrm>
          <a:prstGeom prst="can">
            <a:avLst>
              <a:gd name="adj" fmla="val 1168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4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4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4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4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76760" y="3708360"/>
            <a:ext cx="851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Misc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29240" y="3708360"/>
            <a:ext cx="851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Misc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30120" y="4267080"/>
            <a:ext cx="577440" cy="533520"/>
            <a:chOff x="330120" y="4267080"/>
            <a:chExt cx="577440" cy="533520"/>
          </a:xfrm>
        </p:grpSpPr>
        <p:sp>
          <p:nvSpPr>
            <p:cNvPr id="157" name=""/>
            <p:cNvSpPr/>
            <p:nvPr/>
          </p:nvSpPr>
          <p:spPr>
            <a:xfrm>
              <a:off x="330120" y="4267080"/>
              <a:ext cx="247680" cy="533520"/>
            </a:xfrm>
            <a:prstGeom prst="can">
              <a:avLst>
                <a:gd name="adj" fmla="val 2500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1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9880" y="4267080"/>
              <a:ext cx="247680" cy="533520"/>
            </a:xfrm>
            <a:prstGeom prst="can">
              <a:avLst>
                <a:gd name="adj" fmla="val 2500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1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1155600" y="4267080"/>
            <a:ext cx="577440" cy="533520"/>
            <a:chOff x="1155600" y="4267080"/>
            <a:chExt cx="577440" cy="533520"/>
          </a:xfrm>
        </p:grpSpPr>
        <p:sp>
          <p:nvSpPr>
            <p:cNvPr id="160" name=""/>
            <p:cNvSpPr/>
            <p:nvPr/>
          </p:nvSpPr>
          <p:spPr>
            <a:xfrm>
              <a:off x="1155600" y="4267080"/>
              <a:ext cx="247320" cy="533520"/>
            </a:xfrm>
            <a:prstGeom prst="can">
              <a:avLst>
                <a:gd name="adj" fmla="val 25000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2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485720" y="4267080"/>
              <a:ext cx="247320" cy="533520"/>
            </a:xfrm>
            <a:prstGeom prst="can">
              <a:avLst>
                <a:gd name="adj" fmla="val 25000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2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44520" y="4952880"/>
            <a:ext cx="577440" cy="533520"/>
            <a:chOff x="344520" y="4952880"/>
            <a:chExt cx="577440" cy="533520"/>
          </a:xfrm>
        </p:grpSpPr>
        <p:sp>
          <p:nvSpPr>
            <p:cNvPr id="163" name=""/>
            <p:cNvSpPr/>
            <p:nvPr/>
          </p:nvSpPr>
          <p:spPr>
            <a:xfrm>
              <a:off x="344520" y="4952880"/>
              <a:ext cx="247320" cy="533520"/>
            </a:xfrm>
            <a:prstGeom prst="can">
              <a:avLst>
                <a:gd name="adj" fmla="val 25000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3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74640" y="4952880"/>
              <a:ext cx="247320" cy="533520"/>
            </a:xfrm>
            <a:prstGeom prst="can">
              <a:avLst>
                <a:gd name="adj" fmla="val 25000"/>
              </a:avLst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3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155600" y="4952880"/>
            <a:ext cx="577440" cy="533520"/>
            <a:chOff x="1155600" y="4952880"/>
            <a:chExt cx="577440" cy="533520"/>
          </a:xfrm>
        </p:grpSpPr>
        <p:sp>
          <p:nvSpPr>
            <p:cNvPr id="166" name=""/>
            <p:cNvSpPr/>
            <p:nvPr/>
          </p:nvSpPr>
          <p:spPr>
            <a:xfrm>
              <a:off x="1155600" y="4952880"/>
              <a:ext cx="247320" cy="533520"/>
            </a:xfrm>
            <a:prstGeom prst="can">
              <a:avLst>
                <a:gd name="adj" fmla="val 25000"/>
              </a:avLst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4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85720" y="4952880"/>
              <a:ext cx="247320" cy="533520"/>
            </a:xfrm>
            <a:prstGeom prst="can">
              <a:avLst>
                <a:gd name="adj" fmla="val 25000"/>
              </a:avLst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4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155600" y="5651640"/>
            <a:ext cx="577440" cy="533160"/>
            <a:chOff x="1155600" y="5651640"/>
            <a:chExt cx="577440" cy="533160"/>
          </a:xfrm>
        </p:grpSpPr>
        <p:sp>
          <p:nvSpPr>
            <p:cNvPr id="169" name=""/>
            <p:cNvSpPr/>
            <p:nvPr/>
          </p:nvSpPr>
          <p:spPr>
            <a:xfrm>
              <a:off x="1155600" y="5651640"/>
              <a:ext cx="247320" cy="533160"/>
            </a:xfrm>
            <a:prstGeom prst="can">
              <a:avLst>
                <a:gd name="adj" fmla="val 25000"/>
              </a:avLst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6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85720" y="5651640"/>
              <a:ext cx="247320" cy="533160"/>
            </a:xfrm>
            <a:prstGeom prst="can">
              <a:avLst>
                <a:gd name="adj" fmla="val 25000"/>
              </a:avLst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6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673200" y="6095880"/>
            <a:ext cx="87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FFET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06560" y="2209680"/>
            <a:ext cx="6521760" cy="4038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43200" y="1892160"/>
            <a:ext cx="425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M    1     2     3     4     5    6   C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0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1    2     3    4    5    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57120" y="5651640"/>
            <a:ext cx="577440" cy="533160"/>
            <a:chOff x="357120" y="5651640"/>
            <a:chExt cx="577440" cy="533160"/>
          </a:xfrm>
        </p:grpSpPr>
        <p:sp>
          <p:nvSpPr>
            <p:cNvPr id="175" name=""/>
            <p:cNvSpPr/>
            <p:nvPr/>
          </p:nvSpPr>
          <p:spPr>
            <a:xfrm>
              <a:off x="357120" y="5651640"/>
              <a:ext cx="247320" cy="533160"/>
            </a:xfrm>
            <a:prstGeom prst="can">
              <a:avLst>
                <a:gd name="adj" fmla="val 25000"/>
              </a:avLst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5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87240" y="5651640"/>
              <a:ext cx="247320" cy="533160"/>
            </a:xfrm>
            <a:prstGeom prst="can">
              <a:avLst>
                <a:gd name="adj" fmla="val 25000"/>
              </a:avLst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5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2833560" y="2514600"/>
            <a:ext cx="261720" cy="2997360"/>
            <a:chOff x="2833560" y="2514600"/>
            <a:chExt cx="261720" cy="2997360"/>
          </a:xfrm>
        </p:grpSpPr>
        <p:sp>
          <p:nvSpPr>
            <p:cNvPr id="178" name=""/>
            <p:cNvSpPr/>
            <p:nvPr/>
          </p:nvSpPr>
          <p:spPr>
            <a:xfrm>
              <a:off x="2833560" y="2514600"/>
              <a:ext cx="247680" cy="0"/>
            </a:xfrm>
            <a:prstGeom prst="line">
              <a:avLst/>
            </a:prstGeom>
            <a:ln w="381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833560" y="2629080"/>
              <a:ext cx="247680" cy="0"/>
            </a:xfrm>
            <a:prstGeom prst="line">
              <a:avLst/>
            </a:prstGeom>
            <a:ln w="381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833560" y="2743200"/>
              <a:ext cx="247680" cy="0"/>
            </a:xfrm>
            <a:prstGeom prst="line">
              <a:avLst/>
            </a:prstGeom>
            <a:ln w="381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833560" y="2857680"/>
              <a:ext cx="247680" cy="0"/>
            </a:xfrm>
            <a:prstGeom prst="line">
              <a:avLst/>
            </a:prstGeom>
            <a:ln w="381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833560" y="3022560"/>
              <a:ext cx="247680" cy="0"/>
            </a:xfrm>
            <a:prstGeom prst="line">
              <a:avLst/>
            </a:prstGeom>
            <a:ln w="381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833560" y="3111480"/>
              <a:ext cx="247680" cy="0"/>
            </a:xfrm>
            <a:prstGeom prst="line">
              <a:avLst/>
            </a:prstGeom>
            <a:ln w="381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833560" y="3301920"/>
              <a:ext cx="247680" cy="0"/>
            </a:xfrm>
            <a:prstGeom prst="line">
              <a:avLst/>
            </a:prstGeom>
            <a:ln w="381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33560" y="3416400"/>
              <a:ext cx="247680" cy="0"/>
            </a:xfrm>
            <a:prstGeom prst="line">
              <a:avLst/>
            </a:prstGeom>
            <a:ln w="381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847600" y="3733920"/>
              <a:ext cx="247680" cy="0"/>
            </a:xfrm>
            <a:prstGeom prst="line">
              <a:avLst/>
            </a:prstGeom>
            <a:ln w="381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847600" y="3936960"/>
              <a:ext cx="247680" cy="0"/>
            </a:xfrm>
            <a:prstGeom prst="line">
              <a:avLst/>
            </a:prstGeom>
            <a:ln w="381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847600" y="4165560"/>
              <a:ext cx="247680" cy="0"/>
            </a:xfrm>
            <a:prstGeom prst="line">
              <a:avLst/>
            </a:prstGeom>
            <a:ln w="381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847600" y="4305240"/>
              <a:ext cx="247680" cy="0"/>
            </a:xfrm>
            <a:prstGeom prst="line">
              <a:avLst/>
            </a:prstGeom>
            <a:ln w="381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847600" y="4470480"/>
              <a:ext cx="247680" cy="0"/>
            </a:xfrm>
            <a:prstGeom prst="line">
              <a:avLst/>
            </a:prstGeom>
            <a:ln w="381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47600" y="4699080"/>
              <a:ext cx="247680" cy="0"/>
            </a:xfrm>
            <a:prstGeom prst="line">
              <a:avLst/>
            </a:prstGeom>
            <a:ln w="381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833560" y="4991040"/>
              <a:ext cx="247680" cy="0"/>
            </a:xfrm>
            <a:prstGeom prst="line">
              <a:avLst/>
            </a:prstGeom>
            <a:ln w="381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833560" y="5105520"/>
              <a:ext cx="247680" cy="0"/>
            </a:xfrm>
            <a:prstGeom prst="line">
              <a:avLst/>
            </a:prstGeom>
            <a:ln w="381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833560" y="5295960"/>
              <a:ext cx="247680" cy="0"/>
            </a:xfrm>
            <a:prstGeom prst="line">
              <a:avLst/>
            </a:prstGeom>
            <a:ln w="381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833560" y="5511960"/>
              <a:ext cx="247680" cy="0"/>
            </a:xfrm>
            <a:prstGeom prst="line">
              <a:avLst/>
            </a:prstGeom>
            <a:ln w="381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246480" y="1581120"/>
            <a:ext cx="2889000" cy="475920"/>
            <a:chOff x="3246480" y="1581120"/>
            <a:chExt cx="2889000" cy="475920"/>
          </a:xfrm>
        </p:grpSpPr>
        <p:sp>
          <p:nvSpPr>
            <p:cNvPr id="197" name=""/>
            <p:cNvSpPr/>
            <p:nvPr/>
          </p:nvSpPr>
          <p:spPr>
            <a:xfrm>
              <a:off x="4309920" y="1581120"/>
              <a:ext cx="30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6200000">
              <a:off x="4576680" y="498240"/>
              <a:ext cx="228600" cy="2889000"/>
            </a:xfrm>
            <a:custGeom>
              <a:avLst/>
              <a:gdLst>
                <a:gd name="textAreaLeft" fmla="*/ 0 w 228600"/>
                <a:gd name="textAreaRight" fmla="*/ 160560 w 228600"/>
                <a:gd name="textAreaTop" fmla="*/ 120240 h 2889000"/>
                <a:gd name="textAreaBottom" fmla="*/ 2768760 h 288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6659640" y="1581120"/>
            <a:ext cx="2723760" cy="475920"/>
            <a:chOff x="6659640" y="1581120"/>
            <a:chExt cx="2723760" cy="475920"/>
          </a:xfrm>
        </p:grpSpPr>
        <p:sp>
          <p:nvSpPr>
            <p:cNvPr id="200" name=""/>
            <p:cNvSpPr/>
            <p:nvPr/>
          </p:nvSpPr>
          <p:spPr>
            <a:xfrm>
              <a:off x="7656120" y="1581120"/>
              <a:ext cx="300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6200000">
              <a:off x="7907040" y="580680"/>
              <a:ext cx="228600" cy="2723760"/>
            </a:xfrm>
            <a:custGeom>
              <a:avLst/>
              <a:gdLst>
                <a:gd name="textAreaLeft" fmla="*/ 0 w 228600"/>
                <a:gd name="textAreaRight" fmla="*/ 160560 w 228600"/>
                <a:gd name="textAreaTop" fmla="*/ 113400 h 2723760"/>
                <a:gd name="textAreaBottom" fmla="*/ 2610360 h 272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2319120" y="42642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19120" y="363852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5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19120" y="4653000"/>
            <a:ext cx="38484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5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4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4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5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273720" y="2209680"/>
            <a:ext cx="330120" cy="40388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52525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467160" y="5948280"/>
            <a:ext cx="247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67160" y="5715000"/>
            <a:ext cx="247680" cy="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467160" y="5419800"/>
            <a:ext cx="247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67160" y="4933800"/>
            <a:ext cx="247680" cy="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67160" y="4800600"/>
            <a:ext cx="247680" cy="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67160" y="4462560"/>
            <a:ext cx="247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67160" y="3809880"/>
            <a:ext cx="247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65680" y="5948280"/>
            <a:ext cx="247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65680" y="5715000"/>
            <a:ext cx="247680" cy="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65680" y="5419800"/>
            <a:ext cx="247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65680" y="4933800"/>
            <a:ext cx="24768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65680" y="4800600"/>
            <a:ext cx="247680" cy="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65680" y="4462560"/>
            <a:ext cx="247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65680" y="3809880"/>
            <a:ext cx="247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334040" y="5948280"/>
            <a:ext cx="247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334040" y="5715000"/>
            <a:ext cx="247320" cy="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334040" y="5419800"/>
            <a:ext cx="247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334040" y="4933800"/>
            <a:ext cx="247320" cy="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34040" y="4800600"/>
            <a:ext cx="247320" cy="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334040" y="4462560"/>
            <a:ext cx="247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334040" y="3809880"/>
            <a:ext cx="247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70440" y="5948280"/>
            <a:ext cx="247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70440" y="5715000"/>
            <a:ext cx="247680" cy="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870440" y="5419800"/>
            <a:ext cx="247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870440" y="4933800"/>
            <a:ext cx="247680" cy="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70440" y="4800600"/>
            <a:ext cx="247680" cy="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70440" y="4462560"/>
            <a:ext cx="247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65800" y="5948280"/>
            <a:ext cx="247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65800" y="5715000"/>
            <a:ext cx="247680" cy="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65800" y="5419800"/>
            <a:ext cx="247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65800" y="4933800"/>
            <a:ext cx="247680" cy="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65800" y="4800600"/>
            <a:ext cx="247680" cy="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365800" y="4462560"/>
            <a:ext cx="247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365800" y="3809880"/>
            <a:ext cx="247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92760" y="5948280"/>
            <a:ext cx="247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792760" y="5715000"/>
            <a:ext cx="247680" cy="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792760" y="5419800"/>
            <a:ext cx="247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792760" y="4933800"/>
            <a:ext cx="247680" cy="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792760" y="4800600"/>
            <a:ext cx="247680" cy="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792760" y="4462560"/>
            <a:ext cx="247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792760" y="3809880"/>
            <a:ext cx="247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335880" y="2550960"/>
            <a:ext cx="384840" cy="14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4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4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4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4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997840" y="2743200"/>
            <a:ext cx="247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997840" y="3505320"/>
            <a:ext cx="247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997840" y="3809880"/>
            <a:ext cx="247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585280" y="2743200"/>
            <a:ext cx="247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585280" y="3505320"/>
            <a:ext cx="247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585280" y="3809880"/>
            <a:ext cx="247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585280" y="4038480"/>
            <a:ext cx="247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089920" y="3809880"/>
            <a:ext cx="247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089920" y="4038480"/>
            <a:ext cx="247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677000" y="2743200"/>
            <a:ext cx="247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677000" y="3505320"/>
            <a:ext cx="247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77000" y="3809880"/>
            <a:ext cx="247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677000" y="4038480"/>
            <a:ext cx="247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182000" y="2743200"/>
            <a:ext cx="247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182000" y="3505320"/>
            <a:ext cx="247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182000" y="3809880"/>
            <a:ext cx="247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727680" y="2743200"/>
            <a:ext cx="247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727680" y="3505320"/>
            <a:ext cx="247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727680" y="3809880"/>
            <a:ext cx="247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727680" y="4038480"/>
            <a:ext cx="247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06360" y="6388200"/>
            <a:ext cx="71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ig 7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3F67-747E-43F0-B936-B21D7BD3FAA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320400" y="1143000"/>
            <a:ext cx="869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 parte la PCR quantitativa e’ possibile utilizzare i polimorfismi dovuti al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resenza di microsatelli all’interno del gene DMD. Se il malato e’ del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er una regione che contiene una STR (Short Tandem Repeat CAn) si puo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estare la perdita di eterozigosi nella madre e in altre probabili portatric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577800" y="3160800"/>
            <a:ext cx="2615760" cy="1170000"/>
            <a:chOff x="577800" y="3160800"/>
            <a:chExt cx="2615760" cy="1170000"/>
          </a:xfrm>
        </p:grpSpPr>
        <p:sp>
          <p:nvSpPr>
            <p:cNvPr id="271" name=""/>
            <p:cNvSpPr/>
            <p:nvPr/>
          </p:nvSpPr>
          <p:spPr>
            <a:xfrm>
              <a:off x="1865880" y="3200400"/>
              <a:ext cx="230400" cy="195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096640" y="3278160"/>
              <a:ext cx="416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266560" y="327816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542600" y="3492360"/>
              <a:ext cx="1525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068280" y="3487680"/>
              <a:ext cx="0" cy="235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314800" y="3492360"/>
              <a:ext cx="0" cy="236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542600" y="3487680"/>
              <a:ext cx="0" cy="235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954520" y="3637080"/>
              <a:ext cx="239040" cy="209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409480" y="3160800"/>
              <a:ext cx="239040" cy="209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192760" y="3627360"/>
              <a:ext cx="239040" cy="209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83800" y="3697200"/>
              <a:ext cx="230400" cy="195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114200" y="3774960"/>
              <a:ext cx="416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284480" y="3774960"/>
              <a:ext cx="0" cy="21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84000" y="3989520"/>
              <a:ext cx="1031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706040" y="3971880"/>
              <a:ext cx="0" cy="235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84000" y="3971880"/>
              <a:ext cx="0" cy="235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77800" y="4133880"/>
              <a:ext cx="230400" cy="19692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592640" y="4121280"/>
              <a:ext cx="239040" cy="209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427040" y="3657600"/>
              <a:ext cx="239040" cy="209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12920" y="2514600"/>
            <a:ext cx="905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CR con primer che fiancheggiano la STR: i diversi alleli sono dati dal numero di ripetizio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467160" y="3809880"/>
            <a:ext cx="6273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467160" y="4419720"/>
            <a:ext cx="6273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210200" y="3657600"/>
            <a:ext cx="3466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ACACACACACACACACA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67160" y="3657600"/>
            <a:ext cx="660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759800" y="3962520"/>
            <a:ext cx="6602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210200" y="4267080"/>
            <a:ext cx="4705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ACACACACACACACACAACCACACA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467160" y="4267080"/>
            <a:ext cx="660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997840" y="4267080"/>
            <a:ext cx="6606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62960" y="3336840"/>
            <a:ext cx="157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llele 1 136p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127840" y="3968640"/>
            <a:ext cx="157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llele 2 132p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859200" y="5105520"/>
            <a:ext cx="4375080" cy="1600200"/>
          </a:xfrm>
          <a:prstGeom prst="rect">
            <a:avLst/>
          </a:prstGeom>
          <a:solidFill>
            <a:srgbClr val="d1d1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72280" y="4800600"/>
            <a:ext cx="285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      2     3    4     5     6    7    8   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77800" y="4572000"/>
            <a:ext cx="272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llele 3 120pb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llele 4 150pb etc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41640" y="5334120"/>
            <a:ext cx="33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422600" y="5791320"/>
            <a:ext cx="33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32360" y="6172200"/>
            <a:ext cx="330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328600" y="502920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llele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307720" y="549432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llel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307720" y="594360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llele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510160" y="5334120"/>
            <a:ext cx="330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005520" y="5334120"/>
            <a:ext cx="330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500880" y="5334120"/>
            <a:ext cx="330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494400" y="5791320"/>
            <a:ext cx="330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429680" y="6172200"/>
            <a:ext cx="330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429680" y="5334120"/>
            <a:ext cx="330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924680" y="5181480"/>
            <a:ext cx="330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924680" y="5257800"/>
            <a:ext cx="330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924680" y="5334120"/>
            <a:ext cx="330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924680" y="5410080"/>
            <a:ext cx="330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924680" y="5562720"/>
            <a:ext cx="330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924680" y="5638680"/>
            <a:ext cx="330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924680" y="5715000"/>
            <a:ext cx="330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924680" y="5791320"/>
            <a:ext cx="330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924680" y="5943600"/>
            <a:ext cx="330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924680" y="6019920"/>
            <a:ext cx="330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924680" y="6095880"/>
            <a:ext cx="330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924680" y="6172200"/>
            <a:ext cx="330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924680" y="6400800"/>
            <a:ext cx="330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924680" y="6477120"/>
            <a:ext cx="330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924680" y="6616800"/>
            <a:ext cx="330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50120" y="5340240"/>
            <a:ext cx="338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a sorella dell’affetto non e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ortatrice, mentre lo e’ un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lle   z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40880" y="659880"/>
            <a:ext cx="8393400" cy="5590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f0b00"/>
                </a:solidFill>
                <a:latin typeface="Comic Sans MS"/>
              </a:rPr>
              <a:t>Le eterozigoti per le delezioni DMD</a:t>
            </a:r>
            <a:endParaRPr b="1" lang="en-US" sz="2800" spc="-1" strike="noStrike">
              <a:solidFill>
                <a:srgbClr val="ff0b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690D-D8D9-4BB0-89A2-FFA8B06A412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635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f0b00"/>
                </a:solidFill>
                <a:latin typeface="Comic Sans MS"/>
              </a:rPr>
              <a:t>Le delezioni</a:t>
            </a:r>
            <a:endParaRPr b="1" lang="en-US" sz="2800" spc="-1" strike="noStrike">
              <a:solidFill>
                <a:srgbClr val="ff0b00"/>
              </a:solidFill>
              <a:latin typeface="Comic Sans MS"/>
            </a:endParaRPr>
          </a:p>
        </p:txBody>
      </p:sp>
      <p:sp>
        <p:nvSpPr>
          <p:cNvPr id="334" name=""/>
          <p:cNvSpPr/>
          <p:nvPr/>
        </p:nvSpPr>
        <p:spPr>
          <a:xfrm>
            <a:off x="236520" y="1408320"/>
            <a:ext cx="9441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mic Sans MS"/>
              </a:rPr>
              <a:t>Se sono molto ampie :visibili al microscopio possono essere il punto di partenza per identificare una regione candidata: PW/As, Cat eye 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mic Sans MS"/>
              </a:rPr>
              <a:t>La perdita di una regione ampia genera un fenotipo complesso, in cui poi bisogna identificare la regione di minimo overl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" y="2993040"/>
            <a:ext cx="9441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ggi ci si concentra sulle microdelezioni, invisibili al microsocpio, ma identificabili con le metodiche molecolari. Le microdelezioni sono comunque nell’ordine di centinaia di kilobasi e possono essere originate dalla presenza di sequenze ripetute che mediano riarrangiamenti genomi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28600" y="5066280"/>
            <a:ext cx="944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mic Sans MS"/>
              </a:rPr>
              <a:t>La perdita di eterozigosi e’ una evidenza di delezioni, spesso utilizzata ne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mic Sans MS"/>
              </a:rPr>
              <a:t>tum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CA12-FDF6-446A-BE9D-692206ABB8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40880" y="659880"/>
            <a:ext cx="8393400" cy="5590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e2c02"/>
                </a:solidFill>
                <a:latin typeface="Comic Sans MS"/>
              </a:rPr>
              <a:t>Disordini genomici</a:t>
            </a:r>
            <a:endParaRPr b="1" lang="en-US" sz="2800" spc="-1" strike="noStrike">
              <a:solidFill>
                <a:srgbClr val="ff0b00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25560" y="1251000"/>
            <a:ext cx="965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Il fenotipo clinico e’ conseguenza di alterato dosaggio genico di un gene o piu’ localizzati all’interno di segmenti genomici riarrangi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448200" y="5834880"/>
            <a:ext cx="9038520" cy="1184400"/>
            <a:chOff x="448200" y="5834880"/>
            <a:chExt cx="9038520" cy="1184400"/>
          </a:xfrm>
        </p:grpSpPr>
        <p:grpSp>
          <p:nvGrpSpPr>
            <p:cNvPr id="340" name=""/>
            <p:cNvGrpSpPr/>
            <p:nvPr/>
          </p:nvGrpSpPr>
          <p:grpSpPr>
            <a:xfrm>
              <a:off x="448200" y="6013800"/>
              <a:ext cx="6104520" cy="347760"/>
              <a:chOff x="448200" y="6013800"/>
              <a:chExt cx="6104520" cy="347760"/>
            </a:xfrm>
          </p:grpSpPr>
          <p:sp>
            <p:nvSpPr>
              <p:cNvPr id="341" name=""/>
              <p:cNvSpPr/>
              <p:nvPr/>
            </p:nvSpPr>
            <p:spPr>
              <a:xfrm rot="5394000">
                <a:off x="4005360" y="3800520"/>
                <a:ext cx="329400" cy="4763880"/>
              </a:xfrm>
              <a:prstGeom prst="can">
                <a:avLst>
                  <a:gd name="adj" fmla="val 5175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6257000">
                <a:off x="844560" y="5628960"/>
                <a:ext cx="329400" cy="1117080"/>
              </a:xfrm>
              <a:prstGeom prst="can">
                <a:avLst>
                  <a:gd name="adj" fmla="val 12805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3" name=""/>
              <p:cNvGrpSpPr/>
              <p:nvPr/>
            </p:nvGrpSpPr>
            <p:grpSpPr>
              <a:xfrm>
                <a:off x="2139840" y="6020640"/>
                <a:ext cx="1150560" cy="327960"/>
                <a:chOff x="2139840" y="6020640"/>
                <a:chExt cx="1150560" cy="32796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2139840" y="6020640"/>
                  <a:ext cx="245880" cy="32796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3029400" y="6020640"/>
                  <a:ext cx="261000" cy="32796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6" name=""/>
                <p:cNvGrpSpPr/>
                <p:nvPr/>
              </p:nvGrpSpPr>
              <p:grpSpPr>
                <a:xfrm>
                  <a:off x="2418120" y="6135480"/>
                  <a:ext cx="561240" cy="130320"/>
                  <a:chOff x="2418120" y="6135480"/>
                  <a:chExt cx="561240" cy="130320"/>
                </a:xfrm>
              </p:grpSpPr>
              <p:sp>
                <p:nvSpPr>
                  <p:cNvPr id="347" name=""/>
                  <p:cNvSpPr/>
                  <p:nvPr/>
                </p:nvSpPr>
                <p:spPr>
                  <a:xfrm>
                    <a:off x="2418120" y="6137640"/>
                    <a:ext cx="79560" cy="1281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920" bIns="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2580480" y="6135480"/>
                    <a:ext cx="79920" cy="1281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920" bIns="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2736720" y="6137640"/>
                    <a:ext cx="79560" cy="1281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920" bIns="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2899440" y="6135480"/>
                    <a:ext cx="79920" cy="1281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920" bIns="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51" name=""/>
              <p:cNvSpPr/>
              <p:nvPr/>
            </p:nvSpPr>
            <p:spPr>
              <a:xfrm rot="5568000">
                <a:off x="1584000" y="6077160"/>
                <a:ext cx="196560" cy="222480"/>
              </a:xfrm>
              <a:prstGeom prst="can">
                <a:avLst>
                  <a:gd name="adj" fmla="val 1905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155040" y="6024600"/>
                <a:ext cx="122400" cy="32832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909960" y="6024600"/>
                <a:ext cx="261360" cy="3283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4" name=""/>
              <p:cNvGrpSpPr/>
              <p:nvPr/>
            </p:nvGrpSpPr>
            <p:grpSpPr>
              <a:xfrm>
                <a:off x="3314520" y="6139800"/>
                <a:ext cx="561240" cy="130320"/>
                <a:chOff x="3314520" y="6139800"/>
                <a:chExt cx="561240" cy="13032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3314520" y="6141960"/>
                  <a:ext cx="79560" cy="128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3476880" y="6139800"/>
                  <a:ext cx="79920" cy="128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3633120" y="6141960"/>
                  <a:ext cx="79560" cy="128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3795840" y="6139800"/>
                  <a:ext cx="79920" cy="128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9" name=""/>
            <p:cNvGrpSpPr/>
            <p:nvPr/>
          </p:nvGrpSpPr>
          <p:grpSpPr>
            <a:xfrm>
              <a:off x="1340640" y="6671880"/>
              <a:ext cx="2974320" cy="347400"/>
              <a:chOff x="1340640" y="6671880"/>
              <a:chExt cx="2974320" cy="347400"/>
            </a:xfrm>
          </p:grpSpPr>
          <p:sp>
            <p:nvSpPr>
              <p:cNvPr id="360" name=""/>
              <p:cNvSpPr/>
              <p:nvPr/>
            </p:nvSpPr>
            <p:spPr>
              <a:xfrm rot="5394000">
                <a:off x="3326040" y="6017400"/>
                <a:ext cx="329040" cy="1647360"/>
              </a:xfrm>
              <a:prstGeom prst="can">
                <a:avLst>
                  <a:gd name="adj" fmla="val 5175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6257000">
                <a:off x="1737000" y="6287040"/>
                <a:ext cx="329040" cy="1116720"/>
              </a:xfrm>
              <a:prstGeom prst="can">
                <a:avLst>
                  <a:gd name="adj" fmla="val 12805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032280" y="6678360"/>
                <a:ext cx="246240" cy="32760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162240" y="6678360"/>
                <a:ext cx="150120" cy="32760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5568000">
                <a:off x="2476080" y="6734520"/>
                <a:ext cx="196560" cy="222480"/>
              </a:xfrm>
              <a:prstGeom prst="can">
                <a:avLst>
                  <a:gd name="adj" fmla="val 1905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5" name=""/>
            <p:cNvSpPr/>
            <p:nvPr/>
          </p:nvSpPr>
          <p:spPr>
            <a:xfrm>
              <a:off x="6822000" y="5834880"/>
              <a:ext cx="266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romosoma duplica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560120" y="6544440"/>
              <a:ext cx="231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romosoma dele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-10080" y="2181600"/>
            <a:ext cx="985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’instabilita’ di alcune regioni genomiche e’ dovuta alla presenza di low co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repeats: duplicazioni segmentali/duplic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214920" y="3207960"/>
            <a:ext cx="9496800" cy="2304360"/>
            <a:chOff x="214920" y="3207960"/>
            <a:chExt cx="9496800" cy="2304360"/>
          </a:xfrm>
        </p:grpSpPr>
        <p:sp>
          <p:nvSpPr>
            <p:cNvPr id="369" name=""/>
            <p:cNvSpPr/>
            <p:nvPr/>
          </p:nvSpPr>
          <p:spPr>
            <a:xfrm>
              <a:off x="6477120" y="3522600"/>
              <a:ext cx="761760" cy="304920"/>
            </a:xfrm>
            <a:prstGeom prst="rect">
              <a:avLst/>
            </a:prstGeom>
            <a:solidFill>
              <a:srgbClr val="fe2c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0" name=""/>
            <p:cNvGrpSpPr/>
            <p:nvPr/>
          </p:nvGrpSpPr>
          <p:grpSpPr>
            <a:xfrm>
              <a:off x="214920" y="4488120"/>
              <a:ext cx="4241160" cy="349200"/>
              <a:chOff x="214920" y="4488120"/>
              <a:chExt cx="4241160" cy="349200"/>
            </a:xfrm>
          </p:grpSpPr>
          <p:sp>
            <p:nvSpPr>
              <p:cNvPr id="371" name=""/>
              <p:cNvSpPr/>
              <p:nvPr/>
            </p:nvSpPr>
            <p:spPr>
              <a:xfrm rot="5394000">
                <a:off x="2841480" y="3212280"/>
                <a:ext cx="330480" cy="2897280"/>
              </a:xfrm>
              <a:prstGeom prst="can">
                <a:avLst>
                  <a:gd name="adj" fmla="val 5175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rot="16257000">
                <a:off x="610200" y="4104360"/>
                <a:ext cx="330840" cy="1116720"/>
              </a:xfrm>
              <a:prstGeom prst="can">
                <a:avLst>
                  <a:gd name="adj" fmla="val 12805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5568000">
                <a:off x="1347840" y="4548600"/>
                <a:ext cx="197640" cy="222480"/>
              </a:xfrm>
              <a:prstGeom prst="can">
                <a:avLst>
                  <a:gd name="adj" fmla="val 1905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892520" y="4495680"/>
                <a:ext cx="259920" cy="32904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796120" y="4495680"/>
                <a:ext cx="284760" cy="3290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6" name=""/>
              <p:cNvGrpSpPr/>
              <p:nvPr/>
            </p:nvGrpSpPr>
            <p:grpSpPr>
              <a:xfrm>
                <a:off x="2184840" y="4610520"/>
                <a:ext cx="561240" cy="130680"/>
                <a:chOff x="2184840" y="4610520"/>
                <a:chExt cx="561240" cy="13068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2184840" y="4612680"/>
                  <a:ext cx="79560" cy="128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2347200" y="4610520"/>
                  <a:ext cx="79920" cy="128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2503440" y="4612680"/>
                  <a:ext cx="79560" cy="128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2666160" y="4610520"/>
                  <a:ext cx="79920" cy="128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81" name=""/>
            <p:cNvSpPr/>
            <p:nvPr/>
          </p:nvSpPr>
          <p:spPr>
            <a:xfrm>
              <a:off x="2820960" y="4835520"/>
              <a:ext cx="223920" cy="351000"/>
            </a:xfrm>
            <a:prstGeom prst="flowChartCollat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1116720" y="5163120"/>
              <a:ext cx="4242240" cy="349200"/>
              <a:chOff x="1116720" y="5163120"/>
              <a:chExt cx="4242240" cy="349200"/>
            </a:xfrm>
          </p:grpSpPr>
          <p:sp>
            <p:nvSpPr>
              <p:cNvPr id="383" name=""/>
              <p:cNvSpPr/>
              <p:nvPr/>
            </p:nvSpPr>
            <p:spPr>
              <a:xfrm rot="5394000">
                <a:off x="3743640" y="3886560"/>
                <a:ext cx="330840" cy="2898360"/>
              </a:xfrm>
              <a:prstGeom prst="can">
                <a:avLst>
                  <a:gd name="adj" fmla="val 5175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16257000">
                <a:off x="1512000" y="4779360"/>
                <a:ext cx="330840" cy="1116720"/>
              </a:xfrm>
              <a:prstGeom prst="can">
                <a:avLst>
                  <a:gd name="adj" fmla="val 12805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808720" y="5170320"/>
                <a:ext cx="245880" cy="32940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699000" y="5170320"/>
                <a:ext cx="261360" cy="32940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7" name=""/>
              <p:cNvGrpSpPr/>
              <p:nvPr/>
            </p:nvGrpSpPr>
            <p:grpSpPr>
              <a:xfrm>
                <a:off x="3087360" y="5285520"/>
                <a:ext cx="560880" cy="130680"/>
                <a:chOff x="3087360" y="5285520"/>
                <a:chExt cx="560880" cy="13068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3087360" y="5287680"/>
                  <a:ext cx="79560" cy="128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3249720" y="5285520"/>
                  <a:ext cx="79920" cy="128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3405960" y="5287680"/>
                  <a:ext cx="79560" cy="128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3568320" y="5285520"/>
                  <a:ext cx="79920" cy="128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2" name=""/>
              <p:cNvSpPr/>
              <p:nvPr/>
            </p:nvSpPr>
            <p:spPr>
              <a:xfrm rot="5568000">
                <a:off x="2251080" y="5227200"/>
                <a:ext cx="197640" cy="222840"/>
              </a:xfrm>
              <a:prstGeom prst="can">
                <a:avLst>
                  <a:gd name="adj" fmla="val 1905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3" name=""/>
            <p:cNvSpPr/>
            <p:nvPr/>
          </p:nvSpPr>
          <p:spPr>
            <a:xfrm>
              <a:off x="4388760" y="4745520"/>
              <a:ext cx="443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Ricombinazione omologa non allel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43000" y="3446640"/>
              <a:ext cx="474840" cy="4572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070000" y="3446640"/>
              <a:ext cx="520920" cy="4572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641320" y="3489840"/>
              <a:ext cx="366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Dupliconi altamente omologh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7" name=""/>
            <p:cNvGrpSpPr/>
            <p:nvPr/>
          </p:nvGrpSpPr>
          <p:grpSpPr>
            <a:xfrm>
              <a:off x="6553080" y="3598920"/>
              <a:ext cx="576000" cy="151920"/>
              <a:chOff x="6553080" y="3598920"/>
              <a:chExt cx="576000" cy="151920"/>
            </a:xfrm>
          </p:grpSpPr>
          <p:sp>
            <p:nvSpPr>
              <p:cNvPr id="398" name=""/>
              <p:cNvSpPr/>
              <p:nvPr/>
            </p:nvSpPr>
            <p:spPr>
              <a:xfrm>
                <a:off x="6553080" y="3601800"/>
                <a:ext cx="81360" cy="149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719760" y="3598920"/>
                <a:ext cx="82080" cy="149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880320" y="3601800"/>
                <a:ext cx="81360" cy="149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047000" y="3598920"/>
                <a:ext cx="82080" cy="149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2" name=""/>
            <p:cNvSpPr/>
            <p:nvPr/>
          </p:nvSpPr>
          <p:spPr>
            <a:xfrm>
              <a:off x="7225200" y="3207960"/>
              <a:ext cx="2486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Regione conten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almeno un gen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dosage sensit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6D6C-1BD6-4FD1-9ECA-2D9F98935BF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42640" y="685800"/>
            <a:ext cx="3962520" cy="5587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f0b00"/>
                </a:solidFill>
                <a:latin typeface="Comic Sans MS"/>
              </a:rPr>
              <a:t>CMT1A</a:t>
            </a:r>
            <a:endParaRPr b="1" lang="en-US" sz="2800" spc="-1" strike="noStrike">
              <a:solidFill>
                <a:srgbClr val="ff0b00"/>
              </a:solidFill>
              <a:latin typeface="Comic Sans MS"/>
            </a:endParaRPr>
          </a:p>
        </p:txBody>
      </p:sp>
      <p:sp>
        <p:nvSpPr>
          <p:cNvPr id="404" name=""/>
          <p:cNvSpPr/>
          <p:nvPr/>
        </p:nvSpPr>
        <p:spPr>
          <a:xfrm>
            <a:off x="3664080" y="5018040"/>
            <a:ext cx="374400" cy="1764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90760" y="5018040"/>
            <a:ext cx="279360" cy="1764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6865920" y="609480"/>
            <a:ext cx="2937960" cy="1066680"/>
            <a:chOff x="6865920" y="609480"/>
            <a:chExt cx="2937960" cy="1066680"/>
          </a:xfrm>
        </p:grpSpPr>
        <p:grpSp>
          <p:nvGrpSpPr>
            <p:cNvPr id="407" name=""/>
            <p:cNvGrpSpPr/>
            <p:nvPr/>
          </p:nvGrpSpPr>
          <p:grpSpPr>
            <a:xfrm>
              <a:off x="6865920" y="838080"/>
              <a:ext cx="545760" cy="761760"/>
              <a:chOff x="6865920" y="838080"/>
              <a:chExt cx="545760" cy="761760"/>
            </a:xfrm>
          </p:grpSpPr>
          <p:sp>
            <p:nvSpPr>
              <p:cNvPr id="408" name=""/>
              <p:cNvSpPr/>
              <p:nvPr/>
            </p:nvSpPr>
            <p:spPr>
              <a:xfrm>
                <a:off x="6871680" y="838080"/>
                <a:ext cx="540000" cy="32040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865920" y="1279440"/>
                <a:ext cx="540000" cy="32040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0" name=""/>
            <p:cNvSpPr/>
            <p:nvPr/>
          </p:nvSpPr>
          <p:spPr>
            <a:xfrm>
              <a:off x="7488000" y="609480"/>
              <a:ext cx="152640" cy="106668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666200" y="811800"/>
              <a:ext cx="2137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24 K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98,7% di identita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2180520" y="1095480"/>
            <a:ext cx="11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,4 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8083440" y="2819520"/>
            <a:ext cx="451080" cy="2095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267000" y="2824200"/>
            <a:ext cx="374760" cy="1760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635280" y="2719440"/>
            <a:ext cx="695520" cy="368280"/>
          </a:xfrm>
          <a:prstGeom prst="cube">
            <a:avLst>
              <a:gd name="adj" fmla="val 25000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284720" y="2824200"/>
            <a:ext cx="1990800" cy="2095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183360" y="2719440"/>
            <a:ext cx="695160" cy="368280"/>
          </a:xfrm>
          <a:prstGeom prst="cube">
            <a:avLst>
              <a:gd name="adj" fmla="val 25000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31000" y="2824200"/>
            <a:ext cx="1019160" cy="2095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7858080" y="2460600"/>
            <a:ext cx="189000" cy="917280"/>
            <a:chOff x="7858080" y="2460600"/>
            <a:chExt cx="189000" cy="917280"/>
          </a:xfrm>
        </p:grpSpPr>
        <p:sp>
          <p:nvSpPr>
            <p:cNvPr id="420" name=""/>
            <p:cNvSpPr/>
            <p:nvPr/>
          </p:nvSpPr>
          <p:spPr>
            <a:xfrm>
              <a:off x="7858080" y="2504160"/>
              <a:ext cx="94680" cy="873720"/>
            </a:xfrm>
            <a:custGeom>
              <a:avLst/>
              <a:gdLst/>
              <a:ahLst/>
              <a:rect l="l" t="t" r="r" b="b"/>
              <a:pathLst>
                <a:path w="97" h="480">
                  <a:moveTo>
                    <a:pt x="0" y="0"/>
                  </a:moveTo>
                  <a:cubicBezTo>
                    <a:pt x="18" y="55"/>
                    <a:pt x="44" y="104"/>
                    <a:pt x="80" y="152"/>
                  </a:cubicBezTo>
                  <a:cubicBezTo>
                    <a:pt x="97" y="203"/>
                    <a:pt x="67" y="244"/>
                    <a:pt x="32" y="280"/>
                  </a:cubicBezTo>
                  <a:cubicBezTo>
                    <a:pt x="16" y="325"/>
                    <a:pt x="5" y="334"/>
                    <a:pt x="24" y="384"/>
                  </a:cubicBezTo>
                  <a:cubicBezTo>
                    <a:pt x="36" y="417"/>
                    <a:pt x="71" y="446"/>
                    <a:pt x="88" y="48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952040" y="2460600"/>
              <a:ext cx="95040" cy="873720"/>
            </a:xfrm>
            <a:custGeom>
              <a:avLst/>
              <a:gdLst/>
              <a:ahLst/>
              <a:rect l="l" t="t" r="r" b="b"/>
              <a:pathLst>
                <a:path w="97" h="480">
                  <a:moveTo>
                    <a:pt x="0" y="0"/>
                  </a:moveTo>
                  <a:cubicBezTo>
                    <a:pt x="18" y="55"/>
                    <a:pt x="44" y="104"/>
                    <a:pt x="80" y="152"/>
                  </a:cubicBezTo>
                  <a:cubicBezTo>
                    <a:pt x="97" y="203"/>
                    <a:pt x="67" y="244"/>
                    <a:pt x="32" y="280"/>
                  </a:cubicBezTo>
                  <a:cubicBezTo>
                    <a:pt x="16" y="325"/>
                    <a:pt x="5" y="334"/>
                    <a:pt x="24" y="384"/>
                  </a:cubicBezTo>
                  <a:cubicBezTo>
                    <a:pt x="36" y="417"/>
                    <a:pt x="71" y="446"/>
                    <a:pt x="88" y="48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8037360" y="2635200"/>
            <a:ext cx="139680" cy="4366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3125880" y="2475000"/>
            <a:ext cx="189000" cy="917280"/>
            <a:chOff x="3125880" y="2475000"/>
            <a:chExt cx="189000" cy="917280"/>
          </a:xfrm>
        </p:grpSpPr>
        <p:sp>
          <p:nvSpPr>
            <p:cNvPr id="424" name=""/>
            <p:cNvSpPr/>
            <p:nvPr/>
          </p:nvSpPr>
          <p:spPr>
            <a:xfrm>
              <a:off x="3125880" y="2518560"/>
              <a:ext cx="94680" cy="873720"/>
            </a:xfrm>
            <a:custGeom>
              <a:avLst/>
              <a:gdLst/>
              <a:ahLst/>
              <a:rect l="l" t="t" r="r" b="b"/>
              <a:pathLst>
                <a:path w="97" h="480">
                  <a:moveTo>
                    <a:pt x="0" y="0"/>
                  </a:moveTo>
                  <a:cubicBezTo>
                    <a:pt x="18" y="55"/>
                    <a:pt x="44" y="104"/>
                    <a:pt x="80" y="152"/>
                  </a:cubicBezTo>
                  <a:cubicBezTo>
                    <a:pt x="97" y="203"/>
                    <a:pt x="67" y="244"/>
                    <a:pt x="32" y="280"/>
                  </a:cubicBezTo>
                  <a:cubicBezTo>
                    <a:pt x="16" y="325"/>
                    <a:pt x="5" y="334"/>
                    <a:pt x="24" y="384"/>
                  </a:cubicBezTo>
                  <a:cubicBezTo>
                    <a:pt x="36" y="417"/>
                    <a:pt x="71" y="446"/>
                    <a:pt x="88" y="48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219840" y="2475000"/>
              <a:ext cx="95040" cy="873720"/>
            </a:xfrm>
            <a:custGeom>
              <a:avLst/>
              <a:gdLst/>
              <a:ahLst/>
              <a:rect l="l" t="t" r="r" b="b"/>
              <a:pathLst>
                <a:path w="97" h="480">
                  <a:moveTo>
                    <a:pt x="0" y="0"/>
                  </a:moveTo>
                  <a:cubicBezTo>
                    <a:pt x="18" y="55"/>
                    <a:pt x="44" y="104"/>
                    <a:pt x="80" y="152"/>
                  </a:cubicBezTo>
                  <a:cubicBezTo>
                    <a:pt x="97" y="203"/>
                    <a:pt x="67" y="244"/>
                    <a:pt x="32" y="280"/>
                  </a:cubicBezTo>
                  <a:cubicBezTo>
                    <a:pt x="16" y="325"/>
                    <a:pt x="5" y="334"/>
                    <a:pt x="24" y="384"/>
                  </a:cubicBezTo>
                  <a:cubicBezTo>
                    <a:pt x="36" y="417"/>
                    <a:pt x="71" y="446"/>
                    <a:pt x="88" y="48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2894040" y="2824200"/>
            <a:ext cx="279360" cy="1760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741760" y="307728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923600" y="319140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568840" y="2019240"/>
            <a:ext cx="451080" cy="2095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52400" y="2023920"/>
            <a:ext cx="374760" cy="1764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120680" y="1919160"/>
            <a:ext cx="695520" cy="368280"/>
          </a:xfrm>
          <a:prstGeom prst="cube">
            <a:avLst>
              <a:gd name="adj" fmla="val 25000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770120" y="2023920"/>
            <a:ext cx="1990800" cy="2095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668760" y="1919160"/>
            <a:ext cx="695160" cy="368280"/>
          </a:xfrm>
          <a:prstGeom prst="cube">
            <a:avLst>
              <a:gd name="adj" fmla="val 25000"/>
            </a:avLst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316400" y="2023920"/>
            <a:ext cx="1019160" cy="2095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120680" y="1762200"/>
            <a:ext cx="649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760920" y="1762200"/>
            <a:ext cx="649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143000" y="1508040"/>
            <a:ext cx="32274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5343480" y="1660680"/>
            <a:ext cx="189000" cy="916920"/>
            <a:chOff x="5343480" y="1660680"/>
            <a:chExt cx="189000" cy="916920"/>
          </a:xfrm>
        </p:grpSpPr>
        <p:sp>
          <p:nvSpPr>
            <p:cNvPr id="439" name=""/>
            <p:cNvSpPr/>
            <p:nvPr/>
          </p:nvSpPr>
          <p:spPr>
            <a:xfrm>
              <a:off x="5343480" y="1704240"/>
              <a:ext cx="94680" cy="873360"/>
            </a:xfrm>
            <a:custGeom>
              <a:avLst/>
              <a:gdLst/>
              <a:ahLst/>
              <a:rect l="l" t="t" r="r" b="b"/>
              <a:pathLst>
                <a:path w="97" h="480">
                  <a:moveTo>
                    <a:pt x="0" y="0"/>
                  </a:moveTo>
                  <a:cubicBezTo>
                    <a:pt x="18" y="55"/>
                    <a:pt x="44" y="104"/>
                    <a:pt x="80" y="152"/>
                  </a:cubicBezTo>
                  <a:cubicBezTo>
                    <a:pt x="97" y="203"/>
                    <a:pt x="67" y="244"/>
                    <a:pt x="32" y="280"/>
                  </a:cubicBezTo>
                  <a:cubicBezTo>
                    <a:pt x="16" y="325"/>
                    <a:pt x="5" y="334"/>
                    <a:pt x="24" y="384"/>
                  </a:cubicBezTo>
                  <a:cubicBezTo>
                    <a:pt x="36" y="417"/>
                    <a:pt x="71" y="446"/>
                    <a:pt x="88" y="48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437440" y="1660680"/>
              <a:ext cx="95040" cy="873360"/>
            </a:xfrm>
            <a:custGeom>
              <a:avLst/>
              <a:gdLst/>
              <a:ahLst/>
              <a:rect l="l" t="t" r="r" b="b"/>
              <a:pathLst>
                <a:path w="97" h="480">
                  <a:moveTo>
                    <a:pt x="0" y="0"/>
                  </a:moveTo>
                  <a:cubicBezTo>
                    <a:pt x="18" y="55"/>
                    <a:pt x="44" y="104"/>
                    <a:pt x="80" y="152"/>
                  </a:cubicBezTo>
                  <a:cubicBezTo>
                    <a:pt x="97" y="203"/>
                    <a:pt x="67" y="244"/>
                    <a:pt x="32" y="280"/>
                  </a:cubicBezTo>
                  <a:cubicBezTo>
                    <a:pt x="16" y="325"/>
                    <a:pt x="5" y="334"/>
                    <a:pt x="24" y="384"/>
                  </a:cubicBezTo>
                  <a:cubicBezTo>
                    <a:pt x="36" y="417"/>
                    <a:pt x="71" y="446"/>
                    <a:pt x="88" y="48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1" name=""/>
          <p:cNvSpPr/>
          <p:nvPr/>
        </p:nvSpPr>
        <p:spPr>
          <a:xfrm>
            <a:off x="5522760" y="1835280"/>
            <a:ext cx="139680" cy="43632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611280" y="1674720"/>
            <a:ext cx="189000" cy="917280"/>
            <a:chOff x="611280" y="1674720"/>
            <a:chExt cx="189000" cy="917280"/>
          </a:xfrm>
        </p:grpSpPr>
        <p:sp>
          <p:nvSpPr>
            <p:cNvPr id="443" name=""/>
            <p:cNvSpPr/>
            <p:nvPr/>
          </p:nvSpPr>
          <p:spPr>
            <a:xfrm>
              <a:off x="611280" y="1718280"/>
              <a:ext cx="94680" cy="873720"/>
            </a:xfrm>
            <a:custGeom>
              <a:avLst/>
              <a:gdLst/>
              <a:ahLst/>
              <a:rect l="l" t="t" r="r" b="b"/>
              <a:pathLst>
                <a:path w="97" h="480">
                  <a:moveTo>
                    <a:pt x="0" y="0"/>
                  </a:moveTo>
                  <a:cubicBezTo>
                    <a:pt x="18" y="55"/>
                    <a:pt x="44" y="104"/>
                    <a:pt x="80" y="152"/>
                  </a:cubicBezTo>
                  <a:cubicBezTo>
                    <a:pt x="97" y="203"/>
                    <a:pt x="67" y="244"/>
                    <a:pt x="32" y="280"/>
                  </a:cubicBezTo>
                  <a:cubicBezTo>
                    <a:pt x="16" y="325"/>
                    <a:pt x="5" y="334"/>
                    <a:pt x="24" y="384"/>
                  </a:cubicBezTo>
                  <a:cubicBezTo>
                    <a:pt x="36" y="417"/>
                    <a:pt x="71" y="446"/>
                    <a:pt x="88" y="48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05240" y="1674720"/>
              <a:ext cx="95040" cy="873720"/>
            </a:xfrm>
            <a:custGeom>
              <a:avLst/>
              <a:gdLst/>
              <a:ahLst/>
              <a:rect l="l" t="t" r="r" b="b"/>
              <a:pathLst>
                <a:path w="97" h="480">
                  <a:moveTo>
                    <a:pt x="0" y="0"/>
                  </a:moveTo>
                  <a:cubicBezTo>
                    <a:pt x="18" y="55"/>
                    <a:pt x="44" y="104"/>
                    <a:pt x="80" y="152"/>
                  </a:cubicBezTo>
                  <a:cubicBezTo>
                    <a:pt x="97" y="203"/>
                    <a:pt x="67" y="244"/>
                    <a:pt x="32" y="280"/>
                  </a:cubicBezTo>
                  <a:cubicBezTo>
                    <a:pt x="16" y="325"/>
                    <a:pt x="5" y="334"/>
                    <a:pt x="24" y="384"/>
                  </a:cubicBezTo>
                  <a:cubicBezTo>
                    <a:pt x="36" y="417"/>
                    <a:pt x="71" y="446"/>
                    <a:pt x="88" y="48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5" name=""/>
          <p:cNvSpPr/>
          <p:nvPr/>
        </p:nvSpPr>
        <p:spPr>
          <a:xfrm>
            <a:off x="379440" y="2023920"/>
            <a:ext cx="279360" cy="1764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27160" y="22770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409000" y="139284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657600" y="2270160"/>
            <a:ext cx="609480" cy="533520"/>
          </a:xfrm>
          <a:prstGeom prst="flowChartCollat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1790640" y="2079720"/>
            <a:ext cx="1790640" cy="152280"/>
            <a:chOff x="1790640" y="2079720"/>
            <a:chExt cx="1790640" cy="152280"/>
          </a:xfrm>
        </p:grpSpPr>
        <p:sp>
          <p:nvSpPr>
            <p:cNvPr id="450" name=""/>
            <p:cNvSpPr/>
            <p:nvPr/>
          </p:nvSpPr>
          <p:spPr>
            <a:xfrm>
              <a:off x="1790640" y="2079720"/>
              <a:ext cx="228600" cy="15228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082960" y="2079720"/>
              <a:ext cx="228600" cy="15228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413080" y="2079720"/>
              <a:ext cx="228600" cy="15228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717640" y="2079720"/>
              <a:ext cx="228600" cy="15228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22560" y="2079720"/>
              <a:ext cx="228600" cy="15228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352680" y="2079720"/>
              <a:ext cx="228600" cy="15228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4330800" y="2879640"/>
            <a:ext cx="1790640" cy="152280"/>
            <a:chOff x="4330800" y="2879640"/>
            <a:chExt cx="1790640" cy="152280"/>
          </a:xfrm>
        </p:grpSpPr>
        <p:sp>
          <p:nvSpPr>
            <p:cNvPr id="457" name=""/>
            <p:cNvSpPr/>
            <p:nvPr/>
          </p:nvSpPr>
          <p:spPr>
            <a:xfrm>
              <a:off x="4330800" y="2879640"/>
              <a:ext cx="228600" cy="15228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623120" y="2879640"/>
              <a:ext cx="228600" cy="15228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953240" y="2879640"/>
              <a:ext cx="228600" cy="15228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57800" y="2879640"/>
              <a:ext cx="228600" cy="15228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562720" y="2879640"/>
              <a:ext cx="228600" cy="15228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892840" y="2879640"/>
              <a:ext cx="228600" cy="15228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3973680" y="4913280"/>
            <a:ext cx="446040" cy="368280"/>
          </a:xfrm>
          <a:prstGeom prst="cube">
            <a:avLst>
              <a:gd name="adj" fmla="val 25000"/>
            </a:avLst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267080" y="4911840"/>
            <a:ext cx="373320" cy="368280"/>
          </a:xfrm>
          <a:prstGeom prst="cube">
            <a:avLst>
              <a:gd name="adj" fmla="val 25000"/>
            </a:avLst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824440" y="5013360"/>
            <a:ext cx="451080" cy="2095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572000" y="5018040"/>
            <a:ext cx="1019160" cy="2095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599080" y="4654440"/>
            <a:ext cx="189000" cy="917280"/>
            <a:chOff x="5599080" y="4654440"/>
            <a:chExt cx="189000" cy="917280"/>
          </a:xfrm>
        </p:grpSpPr>
        <p:sp>
          <p:nvSpPr>
            <p:cNvPr id="468" name=""/>
            <p:cNvSpPr/>
            <p:nvPr/>
          </p:nvSpPr>
          <p:spPr>
            <a:xfrm>
              <a:off x="5599080" y="4698000"/>
              <a:ext cx="94680" cy="873720"/>
            </a:xfrm>
            <a:custGeom>
              <a:avLst/>
              <a:gdLst/>
              <a:ahLst/>
              <a:rect l="l" t="t" r="r" b="b"/>
              <a:pathLst>
                <a:path w="97" h="480">
                  <a:moveTo>
                    <a:pt x="0" y="0"/>
                  </a:moveTo>
                  <a:cubicBezTo>
                    <a:pt x="18" y="55"/>
                    <a:pt x="44" y="104"/>
                    <a:pt x="80" y="152"/>
                  </a:cubicBezTo>
                  <a:cubicBezTo>
                    <a:pt x="97" y="203"/>
                    <a:pt x="67" y="244"/>
                    <a:pt x="32" y="280"/>
                  </a:cubicBezTo>
                  <a:cubicBezTo>
                    <a:pt x="16" y="325"/>
                    <a:pt x="5" y="334"/>
                    <a:pt x="24" y="384"/>
                  </a:cubicBezTo>
                  <a:cubicBezTo>
                    <a:pt x="36" y="417"/>
                    <a:pt x="71" y="446"/>
                    <a:pt x="88" y="48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693040" y="4654440"/>
              <a:ext cx="95040" cy="873720"/>
            </a:xfrm>
            <a:custGeom>
              <a:avLst/>
              <a:gdLst/>
              <a:ahLst/>
              <a:rect l="l" t="t" r="r" b="b"/>
              <a:pathLst>
                <a:path w="97" h="480">
                  <a:moveTo>
                    <a:pt x="0" y="0"/>
                  </a:moveTo>
                  <a:cubicBezTo>
                    <a:pt x="18" y="55"/>
                    <a:pt x="44" y="104"/>
                    <a:pt x="80" y="152"/>
                  </a:cubicBezTo>
                  <a:cubicBezTo>
                    <a:pt x="97" y="203"/>
                    <a:pt x="67" y="244"/>
                    <a:pt x="32" y="280"/>
                  </a:cubicBezTo>
                  <a:cubicBezTo>
                    <a:pt x="16" y="325"/>
                    <a:pt x="5" y="334"/>
                    <a:pt x="24" y="384"/>
                  </a:cubicBezTo>
                  <a:cubicBezTo>
                    <a:pt x="36" y="417"/>
                    <a:pt x="71" y="446"/>
                    <a:pt x="88" y="48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0" name=""/>
          <p:cNvSpPr/>
          <p:nvPr/>
        </p:nvSpPr>
        <p:spPr>
          <a:xfrm>
            <a:off x="5778360" y="4829040"/>
            <a:ext cx="139680" cy="43668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664600" y="538560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522600" y="4713120"/>
            <a:ext cx="95400" cy="873360"/>
          </a:xfrm>
          <a:custGeom>
            <a:avLst/>
            <a:gdLst/>
            <a:ahLst/>
            <a:rect l="l" t="t" r="r" b="b"/>
            <a:pathLst>
              <a:path w="97" h="480">
                <a:moveTo>
                  <a:pt x="0" y="0"/>
                </a:moveTo>
                <a:cubicBezTo>
                  <a:pt x="18" y="55"/>
                  <a:pt x="44" y="104"/>
                  <a:pt x="80" y="152"/>
                </a:cubicBezTo>
                <a:cubicBezTo>
                  <a:pt x="97" y="203"/>
                  <a:pt x="67" y="244"/>
                  <a:pt x="32" y="280"/>
                </a:cubicBezTo>
                <a:cubicBezTo>
                  <a:pt x="16" y="325"/>
                  <a:pt x="5" y="334"/>
                  <a:pt x="24" y="384"/>
                </a:cubicBezTo>
                <a:cubicBezTo>
                  <a:pt x="36" y="417"/>
                  <a:pt x="71" y="446"/>
                  <a:pt x="88" y="48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616200" y="4668840"/>
            <a:ext cx="95400" cy="873000"/>
          </a:xfrm>
          <a:custGeom>
            <a:avLst/>
            <a:gdLst/>
            <a:ahLst/>
            <a:rect l="l" t="t" r="r" b="b"/>
            <a:pathLst>
              <a:path w="97" h="480">
                <a:moveTo>
                  <a:pt x="0" y="0"/>
                </a:moveTo>
                <a:cubicBezTo>
                  <a:pt x="18" y="55"/>
                  <a:pt x="44" y="104"/>
                  <a:pt x="80" y="152"/>
                </a:cubicBezTo>
                <a:cubicBezTo>
                  <a:pt x="97" y="203"/>
                  <a:pt x="67" y="244"/>
                  <a:pt x="32" y="280"/>
                </a:cubicBezTo>
                <a:cubicBezTo>
                  <a:pt x="16" y="325"/>
                  <a:pt x="5" y="334"/>
                  <a:pt x="24" y="384"/>
                </a:cubicBezTo>
                <a:cubicBezTo>
                  <a:pt x="36" y="417"/>
                  <a:pt x="71" y="446"/>
                  <a:pt x="88" y="48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379440" y="3884760"/>
            <a:ext cx="6651720" cy="970560"/>
            <a:chOff x="379440" y="3884760"/>
            <a:chExt cx="6651720" cy="970560"/>
          </a:xfrm>
        </p:grpSpPr>
        <p:sp>
          <p:nvSpPr>
            <p:cNvPr id="475" name=""/>
            <p:cNvSpPr/>
            <p:nvPr/>
          </p:nvSpPr>
          <p:spPr>
            <a:xfrm>
              <a:off x="905040" y="4233960"/>
              <a:ext cx="374400" cy="1760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273320" y="4129200"/>
              <a:ext cx="695160" cy="368280"/>
            </a:xfrm>
            <a:prstGeom prst="cube">
              <a:avLst>
                <a:gd name="adj" fmla="val 25000"/>
              </a:avLst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922400" y="4233960"/>
              <a:ext cx="1990800" cy="2095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21040" y="4129200"/>
              <a:ext cx="446040" cy="368280"/>
            </a:xfrm>
            <a:prstGeom prst="cube">
              <a:avLst>
                <a:gd name="adj" fmla="val 25000"/>
              </a:avLst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273320" y="3971880"/>
              <a:ext cx="64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913200" y="3971880"/>
              <a:ext cx="64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1" name=""/>
            <p:cNvGrpSpPr/>
            <p:nvPr/>
          </p:nvGrpSpPr>
          <p:grpSpPr>
            <a:xfrm>
              <a:off x="763560" y="3884760"/>
              <a:ext cx="189000" cy="916920"/>
              <a:chOff x="763560" y="3884760"/>
              <a:chExt cx="189000" cy="916920"/>
            </a:xfrm>
          </p:grpSpPr>
          <p:sp>
            <p:nvSpPr>
              <p:cNvPr id="482" name=""/>
              <p:cNvSpPr/>
              <p:nvPr/>
            </p:nvSpPr>
            <p:spPr>
              <a:xfrm>
                <a:off x="763560" y="3928320"/>
                <a:ext cx="94680" cy="87336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857520" y="3884760"/>
                <a:ext cx="95040" cy="873360"/>
              </a:xfrm>
              <a:custGeom>
                <a:avLst/>
                <a:gdLst/>
                <a:ahLst/>
                <a:rect l="l" t="t" r="r" b="b"/>
                <a:pathLst>
                  <a:path w="97" h="480">
                    <a:moveTo>
                      <a:pt x="0" y="0"/>
                    </a:moveTo>
                    <a:cubicBezTo>
                      <a:pt x="18" y="55"/>
                      <a:pt x="44" y="104"/>
                      <a:pt x="80" y="152"/>
                    </a:cubicBezTo>
                    <a:cubicBezTo>
                      <a:pt x="97" y="203"/>
                      <a:pt x="67" y="244"/>
                      <a:pt x="32" y="280"/>
                    </a:cubicBezTo>
                    <a:cubicBezTo>
                      <a:pt x="16" y="325"/>
                      <a:pt x="5" y="334"/>
                      <a:pt x="24" y="384"/>
                    </a:cubicBezTo>
                    <a:cubicBezTo>
                      <a:pt x="36" y="417"/>
                      <a:pt x="71" y="446"/>
                      <a:pt x="88" y="48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531720" y="4233960"/>
              <a:ext cx="279360" cy="1760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808080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79440" y="448704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t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6" name=""/>
            <p:cNvGrpSpPr/>
            <p:nvPr/>
          </p:nvGrpSpPr>
          <p:grpSpPr>
            <a:xfrm>
              <a:off x="1943280" y="4289400"/>
              <a:ext cx="1790640" cy="152280"/>
              <a:chOff x="1943280" y="4289400"/>
              <a:chExt cx="1790640" cy="152280"/>
            </a:xfrm>
          </p:grpSpPr>
          <p:sp>
            <p:nvSpPr>
              <p:cNvPr id="487" name=""/>
              <p:cNvSpPr/>
              <p:nvPr/>
            </p:nvSpPr>
            <p:spPr>
              <a:xfrm>
                <a:off x="1943280" y="4289400"/>
                <a:ext cx="228600" cy="15228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235600" y="4289400"/>
                <a:ext cx="228600" cy="15228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565720" y="4289400"/>
                <a:ext cx="228600" cy="15228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870280" y="4289400"/>
                <a:ext cx="228600" cy="15228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175200" y="4289400"/>
                <a:ext cx="228600" cy="15228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505320" y="4289400"/>
                <a:ext cx="228600" cy="15228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3" name=""/>
            <p:cNvSpPr/>
            <p:nvPr/>
          </p:nvSpPr>
          <p:spPr>
            <a:xfrm>
              <a:off x="4114800" y="4127400"/>
              <a:ext cx="372960" cy="368280"/>
            </a:xfrm>
            <a:prstGeom prst="cube">
              <a:avLst>
                <a:gd name="adj" fmla="val 25000"/>
              </a:avLst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4" name=""/>
            <p:cNvGrpSpPr/>
            <p:nvPr/>
          </p:nvGrpSpPr>
          <p:grpSpPr>
            <a:xfrm>
              <a:off x="4437000" y="4124160"/>
              <a:ext cx="2594160" cy="368280"/>
              <a:chOff x="4437000" y="4124160"/>
              <a:chExt cx="2594160" cy="368280"/>
            </a:xfrm>
          </p:grpSpPr>
          <p:sp>
            <p:nvSpPr>
              <p:cNvPr id="495" name=""/>
              <p:cNvSpPr/>
              <p:nvPr/>
            </p:nvSpPr>
            <p:spPr>
              <a:xfrm>
                <a:off x="4437000" y="4228920"/>
                <a:ext cx="1990800" cy="2095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335640" y="4124160"/>
                <a:ext cx="695520" cy="36828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1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7" name=""/>
              <p:cNvGrpSpPr/>
              <p:nvPr/>
            </p:nvGrpSpPr>
            <p:grpSpPr>
              <a:xfrm>
                <a:off x="4483080" y="4284720"/>
                <a:ext cx="1790640" cy="152280"/>
                <a:chOff x="4483080" y="4284720"/>
                <a:chExt cx="1790640" cy="15228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4483080" y="4284720"/>
                  <a:ext cx="228600" cy="152280"/>
                </a:xfrm>
                <a:prstGeom prst="irregularSeal1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4775400" y="4284720"/>
                  <a:ext cx="228600" cy="152280"/>
                </a:xfrm>
                <a:prstGeom prst="irregularSeal1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5105520" y="4284720"/>
                  <a:ext cx="228600" cy="152280"/>
                </a:xfrm>
                <a:prstGeom prst="irregularSeal1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5410080" y="4284720"/>
                  <a:ext cx="228600" cy="152280"/>
                </a:xfrm>
                <a:prstGeom prst="irregularSeal1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5715000" y="4284720"/>
                  <a:ext cx="228600" cy="152280"/>
                </a:xfrm>
                <a:prstGeom prst="irregularSeal1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6045120" y="4284720"/>
                  <a:ext cx="228600" cy="152280"/>
                </a:xfrm>
                <a:prstGeom prst="irregularSeal1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4" name=""/>
            <p:cNvSpPr/>
            <p:nvPr/>
          </p:nvSpPr>
          <p:spPr>
            <a:xfrm>
              <a:off x="4065480" y="4756320"/>
              <a:ext cx="64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361200" y="3971880"/>
              <a:ext cx="64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6" name=""/>
          <p:cNvSpPr/>
          <p:nvPr/>
        </p:nvSpPr>
        <p:spPr>
          <a:xfrm>
            <a:off x="8186760" y="4229280"/>
            <a:ext cx="450720" cy="2095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934320" y="4233960"/>
            <a:ext cx="1019160" cy="2095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7961400" y="3870360"/>
            <a:ext cx="189000" cy="917280"/>
            <a:chOff x="7961400" y="3870360"/>
            <a:chExt cx="189000" cy="917280"/>
          </a:xfrm>
        </p:grpSpPr>
        <p:sp>
          <p:nvSpPr>
            <p:cNvPr id="509" name=""/>
            <p:cNvSpPr/>
            <p:nvPr/>
          </p:nvSpPr>
          <p:spPr>
            <a:xfrm>
              <a:off x="7961400" y="3913920"/>
              <a:ext cx="94680" cy="873720"/>
            </a:xfrm>
            <a:custGeom>
              <a:avLst/>
              <a:gdLst/>
              <a:ahLst/>
              <a:rect l="l" t="t" r="r" b="b"/>
              <a:pathLst>
                <a:path w="97" h="480">
                  <a:moveTo>
                    <a:pt x="0" y="0"/>
                  </a:moveTo>
                  <a:cubicBezTo>
                    <a:pt x="18" y="55"/>
                    <a:pt x="44" y="104"/>
                    <a:pt x="80" y="152"/>
                  </a:cubicBezTo>
                  <a:cubicBezTo>
                    <a:pt x="97" y="203"/>
                    <a:pt x="67" y="244"/>
                    <a:pt x="32" y="280"/>
                  </a:cubicBezTo>
                  <a:cubicBezTo>
                    <a:pt x="16" y="325"/>
                    <a:pt x="5" y="334"/>
                    <a:pt x="24" y="384"/>
                  </a:cubicBezTo>
                  <a:cubicBezTo>
                    <a:pt x="36" y="417"/>
                    <a:pt x="71" y="446"/>
                    <a:pt x="88" y="48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055360" y="3870360"/>
              <a:ext cx="95040" cy="873720"/>
            </a:xfrm>
            <a:custGeom>
              <a:avLst/>
              <a:gdLst/>
              <a:ahLst/>
              <a:rect l="l" t="t" r="r" b="b"/>
              <a:pathLst>
                <a:path w="97" h="480">
                  <a:moveTo>
                    <a:pt x="0" y="0"/>
                  </a:moveTo>
                  <a:cubicBezTo>
                    <a:pt x="18" y="55"/>
                    <a:pt x="44" y="104"/>
                    <a:pt x="80" y="152"/>
                  </a:cubicBezTo>
                  <a:cubicBezTo>
                    <a:pt x="97" y="203"/>
                    <a:pt x="67" y="244"/>
                    <a:pt x="32" y="280"/>
                  </a:cubicBezTo>
                  <a:cubicBezTo>
                    <a:pt x="16" y="325"/>
                    <a:pt x="5" y="334"/>
                    <a:pt x="24" y="384"/>
                  </a:cubicBezTo>
                  <a:cubicBezTo>
                    <a:pt x="36" y="417"/>
                    <a:pt x="71" y="446"/>
                    <a:pt x="88" y="48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1" name=""/>
          <p:cNvSpPr/>
          <p:nvPr/>
        </p:nvSpPr>
        <p:spPr>
          <a:xfrm>
            <a:off x="8140680" y="4044960"/>
            <a:ext cx="139680" cy="43668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8026920" y="460116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762120" y="1540080"/>
            <a:ext cx="5703120" cy="5484960"/>
            <a:chOff x="762120" y="1540080"/>
            <a:chExt cx="5703120" cy="5484960"/>
          </a:xfrm>
        </p:grpSpPr>
        <p:grpSp>
          <p:nvGrpSpPr>
            <p:cNvPr id="514" name=""/>
            <p:cNvGrpSpPr/>
            <p:nvPr/>
          </p:nvGrpSpPr>
          <p:grpSpPr>
            <a:xfrm>
              <a:off x="2996280" y="1540080"/>
              <a:ext cx="3468960" cy="2898720"/>
              <a:chOff x="2996280" y="1540080"/>
              <a:chExt cx="3468960" cy="2898720"/>
            </a:xfrm>
          </p:grpSpPr>
          <p:sp>
            <p:nvSpPr>
              <p:cNvPr id="515" name=""/>
              <p:cNvSpPr/>
              <p:nvPr/>
            </p:nvSpPr>
            <p:spPr>
              <a:xfrm>
                <a:off x="3025800" y="2076480"/>
                <a:ext cx="228600" cy="152280"/>
              </a:xfrm>
              <a:prstGeom prst="irregularSeal1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V="1">
                <a:off x="3139920" y="1733040"/>
                <a:ext cx="0" cy="3430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2996280" y="1540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PMP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592600" y="2882880"/>
                <a:ext cx="228600" cy="152280"/>
              </a:xfrm>
              <a:prstGeom prst="irregularSeal1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V="1">
                <a:off x="5707080" y="2540160"/>
                <a:ext cx="0" cy="342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563080" y="23464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PMP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719680" y="4286160"/>
                <a:ext cx="228600" cy="152640"/>
              </a:xfrm>
              <a:prstGeom prst="irregularSeal1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V="1">
                <a:off x="5834160" y="3943440"/>
                <a:ext cx="0" cy="342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690160" y="375012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PMP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178080" y="4286160"/>
                <a:ext cx="228600" cy="152640"/>
              </a:xfrm>
              <a:prstGeom prst="irregularSeal1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V="1">
                <a:off x="3292560" y="3943440"/>
                <a:ext cx="0" cy="342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148560" y="375012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PMP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7" name=""/>
            <p:cNvSpPr/>
            <p:nvPr/>
          </p:nvSpPr>
          <p:spPr>
            <a:xfrm>
              <a:off x="762120" y="6016320"/>
              <a:ext cx="50292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SzPct val="150000"/>
                <a:buFont typeface="Wingdings" charset="2"/>
                <a:buChar char="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All’interno della regione sono stati identificati almeno 6-7 geni: solo uno e’ dosage sensitiv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8" name=""/>
          <p:cNvSpPr/>
          <p:nvPr/>
        </p:nvSpPr>
        <p:spPr>
          <a:xfrm rot="5361600">
            <a:off x="4457520" y="3390840"/>
            <a:ext cx="685800" cy="304560"/>
          </a:xfrm>
          <a:custGeom>
            <a:avLst/>
            <a:gdLst>
              <a:gd name="textAreaLeft" fmla="*/ 10692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7"/>
          <a:stretch/>
        </p:blipFill>
        <p:spPr>
          <a:xfrm>
            <a:off x="7010280" y="5105520"/>
            <a:ext cx="2819520" cy="2211120"/>
          </a:xfrm>
          <a:prstGeom prst="rect">
            <a:avLst/>
          </a:prstGeom>
          <a:ln w="9360">
            <a:solidFill>
              <a:srgbClr val="f3ff20"/>
            </a:solidFill>
            <a:miter/>
          </a:ln>
        </p:spPr>
      </p:pic>
      <p:sp>
        <p:nvSpPr>
          <p:cNvPr id="530" name=""/>
          <p:cNvSpPr/>
          <p:nvPr/>
        </p:nvSpPr>
        <p:spPr>
          <a:xfrm>
            <a:off x="128160" y="3656160"/>
            <a:ext cx="12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MT1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120760" y="476892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N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7295-9B85-4306-AC3A-72418F631F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5T12:00:26Z</dcterms:created>
  <dc:creator>CMG</dc:creator>
  <dc:description/>
  <dc:language>en-US</dc:language>
  <cp:lastModifiedBy>Mariano Rocchi</cp:lastModifiedBy>
  <cp:lastPrinted>2004-06-16T17:15:28Z</cp:lastPrinted>
  <dcterms:modified xsi:type="dcterms:W3CDTF">2004-06-16T17:17:09Z</dcterms:modified>
  <cp:revision>663</cp:revision>
  <dc:subject/>
  <dc:title>Geen diatitel</dc:title>
</cp:coreProperties>
</file>